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95F-0D9B-4301-B64B-98C3207B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DC4B-3B64-4E3A-9614-F33ECC88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DDE-EB45-4C30-923F-619F5818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A16-E5CB-41CA-B67E-B9EEE58C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67B-F2C9-4FE3-A65C-F1DFC710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CDD1-BB9C-4E60-9409-93A7D638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A2B-0952-4F77-B941-4AAFD134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935-EB3B-4BD0-ADDA-0459A1EC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6146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81A0-6B18-41D9-8F4A-A6DF6041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9155-F4B8-4DCD-98EA-94842458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A085-8FFB-4A3A-AE1A-1520FF87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3916-899B-4E6B-B6CB-6856836C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7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D6D5-4630-43FE-9976-51DD39029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Structure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Structures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476280"/>
            <a:ext cx="172728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59600" spc="-1" strike="noStrike">
                <a:solidFill>
                  <a:srgbClr val="000000"/>
                </a:solidFill>
                <a:latin typeface="Verdana"/>
              </a:rPr>
              <a:t>Transformation</a:t>
            </a:r>
            <a:endParaRPr b="0" lang="en-US" sz="355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XML et X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1197000"/>
            <a:ext cx="5040360" cy="2919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?xml version="1.0" en_oding="ISO-8859-1" ?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700280"/>
            <a:ext cx="4321080" cy="28101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bib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Guerre et paix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Léon Tolstoï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roma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Fondation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Isaac Asimov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science-fictio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La nuit du renard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Mary Higgins Clark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policier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700280"/>
            <a:ext cx="4321080" cy="433944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Guerre et paix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Léon Tolstoï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roman&lt;/genr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Fondation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Isaac Asimov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science-fiction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La nuit du renard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Mary Higgins Clark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policier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