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54E3C-E634-4F58-AA2D-D908211F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A4E1-1F6A-4B34-A9C6-C5B245189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9918-4CFA-4DAC-970D-D5C783B36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2B2-4336-46BB-8C69-23ACF168E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8F85-D06E-45FC-8538-E9361DC2B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E75A-DC4B-4C78-82A6-E4748CD0A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4E8-3134-4B42-8B11-829102D42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2728-3128-45FC-9209-2853354B5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6146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3ED6-2225-41B1-834C-8307FDA8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079B-1D39-4F88-846E-1B59ACA5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CDBB-4ECE-4231-8699-D049AF72E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99E-6586-4EB2-BB0A-0E3A7C35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6146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Aft>
                <a:spcPts val="124149"/>
              </a:spcAft>
              <a:buNone/>
              <a:tabLst>
                <a:tab algn="l" pos="0"/>
                <a:tab algn="l" pos="3352680"/>
                <a:tab algn="l" pos="670572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79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56C3-35B7-4AFF-A526-90D49A872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-25236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Verdana"/>
              </a:rPr>
              <a:t>Structure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5520" y="800280"/>
            <a:ext cx="331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Verdana"/>
              </a:rPr>
              <a:t>Structures X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0000" y="476280"/>
            <a:ext cx="1727280" cy="360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559600" spc="-1" strike="noStrike">
                <a:solidFill>
                  <a:srgbClr val="000000"/>
                </a:solidFill>
                <a:latin typeface="Verdana"/>
              </a:rPr>
              <a:t>Transformation</a:t>
            </a:r>
            <a:endParaRPr b="0" lang="en-US" sz="355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15920"/>
            <a:ext cx="67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ffffff"/>
                </a:solidFill>
                <a:latin typeface="Verdana"/>
              </a:rPr>
              <a:t>XML et X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08000" y="1197000"/>
            <a:ext cx="5040360" cy="2919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0000"/>
                </a:solidFill>
                <a:latin typeface="Tahoma"/>
              </a:rPr>
              <a:t>&lt;?xml version="1.0" en_oding="ISO-8859-1" ?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1700280"/>
            <a:ext cx="4321080" cy="281016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bib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Guerre et paix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Léon Tolstoï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roma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Fondation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Isaac Asimov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science-fiction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 nom="La nuit du renard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auteur="Mary Higgins Clark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genre="policier" /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0" y="1700280"/>
            <a:ext cx="4321080" cy="4339440"/>
          </a:xfrm>
          <a:prstGeom prst="rect">
            <a:avLst/>
          </a:prstGeom>
          <a:noFill/>
          <a:ln w="1260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Guerre et paix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Léon Tolstoï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roman&lt;/genre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Fondation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Isaac Asimov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science-fiction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nom&gt;La nuit du renard&lt;/nom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auteur&gt;Mary Higgins Clark&lt;/auteu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genre&gt;policier&lt;/gen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livr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Tahoma"/>
              </a:rPr>
              <a:t>&lt;/bibliothequ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42920" y="47628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XS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