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0075863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93240" y="777960"/>
            <a:ext cx="51102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2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B1C9AED9-8714-485B-B202-0FB9D3215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3440" cy="383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 believe in the advantages of a common language to increase the community produ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mon programming language, good starting point but no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shared flexible data model and good programming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istent communication  with the user: interface, documentation, error messages, reporting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3626-9787-4894-BD53-BF0B3E2E0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CA5D-7EF5-4606-818E-88FF5A671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D716-3982-4CB4-BFD7-BFBB63B26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09B2-4E89-4C10-A751-CC38883F1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87CD-B462-469E-8412-EBBC8DFDB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63A9-1CED-4CC2-8F5A-2819E3785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6ECF-1C6B-4882-A5B5-B6CF668E8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144F-994A-4257-817B-560DD2743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85D3-4B7D-485C-AB26-D1ADEFC21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72AC-57DC-4AAC-99F5-CF5F2A7F0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2CA1-5A98-4CA4-BC27-837F46305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33EC-B9D1-45BA-BE2F-54D42685A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0920" y="7226280"/>
            <a:ext cx="1158840" cy="28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1" lang="zh-CN" sz="11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B82B439B-BA72-4EE9-986E-6B0B91FE44EA}" type="slidenum">
              <a:rPr b="1" lang="zh-CN" sz="11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640" y="1769760"/>
            <a:ext cx="90684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008000" algn="ctr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511280" algn="ctr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16000" algn="ctr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/blog/item/d38bba00c1e3d104738da5e1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ehta.googlecode.com/" TargetMode="External"/><Relationship Id="rId3" Type="http://schemas.openxmlformats.org/officeDocument/2006/relationships/hyperlink" Target="http://planet.ph4nt0m.org/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nehta</a:t>
            </a:r>
            <a:br>
              <a:rPr sz="7200"/>
            </a:b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高级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8200" y="3781440"/>
            <a:ext cx="637236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xis@ph4nt0m.org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架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采众家之长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不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ramework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 而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:: JS 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200" y="3925800"/>
            <a:ext cx="2448000" cy="20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1840" y="4573440"/>
            <a:ext cx="10814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96800">
            <a:off x="1943280" y="4068360"/>
            <a:ext cx="1726920" cy="504720"/>
          </a:xfrm>
          <a:prstGeom prst="rightArrow">
            <a:avLst>
              <a:gd name="adj1" fmla="val 50000"/>
              <a:gd name="adj2" fmla="val 85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269000">
            <a:off x="1869840" y="5294160"/>
            <a:ext cx="1726920" cy="505080"/>
          </a:xfrm>
          <a:prstGeom prst="rightArrow">
            <a:avLst>
              <a:gd name="adj1" fmla="val 50000"/>
              <a:gd name="adj2" fmla="val 85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98920" y="356544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25840" y="565308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1280" y="4068720"/>
            <a:ext cx="2016000" cy="288144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881440"/>
              <a:gd name="textAreaBottom" fmla="*/ 2783160 h 2881440"/>
            </a:gdLst>
            <a:ahLst/>
            <a:rect l="textAreaLeft" t="textAreaTop" r="textAreaRight" b="textAreaBottom"/>
            <a:pathLst>
              <a:path w="21600" h="30871">
                <a:moveTo>
                  <a:pt x="3600" y="0"/>
                </a:moveTo>
                <a:arcTo wR="3600" hR="3600" stAng="16200000" swAng="-5400000"/>
                <a:lnTo>
                  <a:pt x="0" y="27271"/>
                </a:lnTo>
                <a:arcTo wR="3600" hR="3600" stAng="10800000" swAng="-5400000"/>
                <a:lnTo>
                  <a:pt x="18000" y="30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9280" y="2486160"/>
            <a:ext cx="647640" cy="64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3640" y="3349800"/>
            <a:ext cx="504720" cy="1081080"/>
          </a:xfrm>
          <a:prstGeom prst="upArrow">
            <a:avLst>
              <a:gd name="adj1" fmla="val 50000"/>
              <a:gd name="adj2" fmla="val 535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13400">
            <a:off x="4174920" y="651816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22920" y="58690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848000">
            <a:off x="4102200" y="4717800"/>
            <a:ext cx="1296720" cy="576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0560" y="478944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43640" y="5869080"/>
            <a:ext cx="79056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4560" y="658980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1640" y="486108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1640" y="608652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0560" y="4718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4560" y="4068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浏览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98920" y="3637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4920" y="57974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43640" y="4933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x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0560" y="5942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26200" y="6589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62920" y="50054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架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509840" y="4718160"/>
            <a:ext cx="7511760" cy="684000"/>
          </a:xfrm>
          <a:prstGeom prst="cube">
            <a:avLst>
              <a:gd name="adj" fmla="val 25000"/>
            </a:avLst>
          </a:prstGeom>
          <a:solidFill>
            <a:srgbClr val="9999cc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3565440"/>
            <a:ext cx="4968720" cy="684360"/>
          </a:xfrm>
          <a:prstGeom prst="cube">
            <a:avLst>
              <a:gd name="adj" fmla="val 25000"/>
            </a:avLst>
          </a:prstGeom>
          <a:solidFill>
            <a:srgbClr val="3deb3d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 Logg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24840" y="2432160"/>
            <a:ext cx="1846080" cy="178092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9840" y="1260360"/>
            <a:ext cx="7511760" cy="68436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9840" y="2432160"/>
            <a:ext cx="5005080" cy="682560"/>
            <a:chOff x="1509840" y="2432160"/>
            <a:chExt cx="5005080" cy="682560"/>
          </a:xfrm>
        </p:grpSpPr>
        <p:sp>
          <p:nvSpPr>
            <p:cNvPr id="135" name=""/>
            <p:cNvSpPr/>
            <p:nvPr/>
          </p:nvSpPr>
          <p:spPr>
            <a:xfrm>
              <a:off x="1509840" y="2432160"/>
              <a:ext cx="25027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Cookie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1000" y="2432160"/>
              <a:ext cx="22939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canner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切都源于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eed.j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非常易于扩展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93840" y="1981080"/>
            <a:ext cx="75610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核心库：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.j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7480" y="11890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Javascript Framework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ogg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Ajax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Inj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Hoo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et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cann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Tric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……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Cach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50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个客户端的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setItem(“Key”, “Value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getItem(“Key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logger.logCach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Cache!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58920" y="1405080"/>
            <a:ext cx="9432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客户端识别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P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ki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ash SharedObjec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客户端水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ross Site Cookie Ste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120" y="1189080"/>
            <a:ext cx="90694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浏览器安全模型的核心：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Cooki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模块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oomerang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(Demo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8560" y="16632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wser Sniff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4200" y="1476360"/>
            <a:ext cx="90694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如何识别浏览器版本？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UserAgent ?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Browser Sniffer!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owser Sniffer in Detai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120" y="1382760"/>
            <a:ext cx="9069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某些浏览器特有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M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对象或者方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opera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Oper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netscape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Mozill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Iterator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 2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document.styleSheetSets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3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&amp; Opera 9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 am I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刺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xis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大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ullik5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道哥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默罕默德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Verdana"/>
              </a:rPr>
              <a:t>Ph4nt0m Security Tea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信息刺探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1360" y="1117080"/>
            <a:ext cx="911556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etect.screenSiz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ffPlugin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activex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history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eylogg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 Javascript Keylogg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keypress , onkeydown, onkeyu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installKeyloggerToAllInput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ok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58560" y="1405080"/>
            <a:ext cx="9343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JS Function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Form Submit!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hookAllForm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rsist Cookie and Online Prox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1120" y="1260000"/>
            <a:ext cx="906948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stful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架构下大型网站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问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om.persistCookie(“Cookie1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line Prox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ent Prox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0200" y="1477440"/>
            <a:ext cx="934416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跨域限制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万恶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tponly cookie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内部网络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证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验证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kflow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/blog/item/d38bba00c1e3d104738da5e1.htm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ome Tricks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8560" y="1549440"/>
            <a:ext cx="93438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ijack Link?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ishing with XSS~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传统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OM based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flected XSS (Non-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tored XSS (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有必要再次细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4200" y="1404720"/>
            <a:ext cx="900108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不同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写法也会不同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是与业务紧密相关的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几类有特点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漏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1405080"/>
            <a:ext cx="9126720" cy="548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ross Page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停留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页面的时间维度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re-Auth XSS/ Post-Auth XSS (Session Fixat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IE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交互性强弱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rite a Worm with Anehta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让你只需要集中精力写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功能即可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丰富的网络连接函数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getURL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css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postFormIntoIfram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pos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网络安全现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系统安全与应用安全两极化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系统安全的研究越来越底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应用安全的研究越来越表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小结：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系统安全的越来越变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应用安全的越来越猥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0">
              <a:spcBef>
                <a:spcPts val="649"/>
              </a:spcBef>
              <a:buNone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5840" y="169344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状态保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本地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lash SharedObjec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断点续传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计划任务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使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lash A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脚本重新实现大部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Java Applet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实现部分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部分有用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ctiveX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控件的方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统计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时间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地域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页面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其他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精确控制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区别对待每一个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更友好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U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ee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dule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集成浏览器、客户端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xploi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I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通知、手机短信通知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ml5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等新特性的支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分布式计算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更多的模块（广告作弊、知名站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模块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DB?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不仅仅是一个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双刃剑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程序员和站长的好帮手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防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Input Filt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utput Encod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ure by Defaul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广告时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anehta.googlecode.co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planet.ph4nt0m.org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4nt0m Webzine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3280" y="163800"/>
            <a:ext cx="785952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 algn="ctr">
              <a:lnSpc>
                <a:spcPct val="98000"/>
              </a:lnSpc>
              <a:spcBef>
                <a:spcPts val="152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6100" spc="-1" strike="noStrike">
                <a:solidFill>
                  <a:srgbClr val="000000"/>
                </a:solidFill>
                <a:latin typeface="Verdana"/>
              </a:rPr>
              <a:t>创意无极限</a:t>
            </a:r>
            <a:r>
              <a:rPr b="0" lang="en-US" sz="61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谢谢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24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9700" spc="-1" strike="noStrike">
                <a:solidFill>
                  <a:srgbClr val="000000"/>
                </a:solidFill>
                <a:latin typeface="Verdana"/>
              </a:rPr>
              <a:t>提问</a:t>
            </a:r>
            <a:r>
              <a:rPr b="0" lang="en-US" sz="97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9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应用安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在线数据越来越重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Gmail, Myspace, Facebook, Taobao, Alipa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 2.0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展下越来越多的计算工作被放到客户端处理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前的安全技术发展实际上落后于应用技术的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WASP Top 1 Thre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后能做什么？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劫持浏览器；一切浏览器能做的事情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is Anehta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43800" indent="-3438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高级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攻击利用平台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(Platform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信息刺探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隐私数据获取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网络请求（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GET/POST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verse word of “Athena”(</a:t>
            </a:r>
            <a:r>
              <a:rPr b="0" lang="zh-CN" sz="3500" spc="-1" strike="noStrike">
                <a:solidFill>
                  <a:srgbClr val="333399"/>
                </a:solidFill>
                <a:latin typeface="Verdana"/>
              </a:rPr>
              <a:t>反转雅典娜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音（跟我念）：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阿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内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塔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利用形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个别目标的有针对性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大规模目标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WORM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些已有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eEF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Shel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y Anehta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现有平台不够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标：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攻击之大成者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尽量降低跨站师们的重复工作量，让跨站师们能够把更多的精力放在处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业务逻辑上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最后：一个能够实现我全部想法的平台，想怎么整就怎么整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</dc:creator>
  <dc:description/>
  <cp:keywords>netifera platform network security open source</cp:keywords>
  <dc:language>en-US</dc:language>
  <cp:lastModifiedBy>hanqin.wuhq</cp:lastModifiedBy>
  <dcterms:modified xsi:type="dcterms:W3CDTF">2008-11-21T03:53:10Z</dcterms:modified>
  <cp:revision>138</cp:revision>
  <dc:subject/>
  <dc:title>The netifera platform</dc:title>
</cp:coreProperties>
</file>