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F62E-C145-4F00-BDD4-044CF56F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activates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M hashes BIOS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boot block loads B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Option ROM’s, stores hash in TPM. Option ROM’s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hashes DRM boot loader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 loads DRM boot loa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hashes DRM kernel, stores hash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boot loader loads DRM ker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verifies pervious hashes, hashes the OS, stores the hash in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decrypts OS symmetric key (3DES or AES) with a user key internal to the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M kernel uses the OS decryption key to dynamically decrypt the operating system while loading the OS from mass storage into memory.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loads initial approved hardware list (HCL), initial Serial Number Revocation List (SRL), verifies previous ha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292-19C2-4A0F-A56B-E5FFB0E7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645-7CC5-4AC3-861F-13C924ED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AD0-7E0F-4FBB-959D-41068E60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D34-A279-49D1-91D5-9C847F50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A008-DEEA-4307-8C57-A0C05364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9167-A1D0-4E68-865C-A337257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10F0-F161-4134-98C8-51EDD8A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DDCF-1480-4F8D-8942-9F200862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F294-12D6-4D12-B750-F4B68A2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894-05BC-46F1-B51F-3BE577C2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CC98-FEFB-450C-B313-DBE2CCC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72-2E81-4F98-8C60-E7F1B14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98BA-3AE5-4575-8F4D-4CCE74F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9ACC-DF74-4282-A24C-FD75FB5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5D1-CC0A-4F54-B31B-68FCECE0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1207-E4EC-4C06-874C-495D3408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0FA5-8F4C-44B5-BC11-6115A759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713-493D-4C3F-A8D7-67F8E769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739-6B82-4825-ACA9-83E43A1A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6BD-21F5-4573-8DB4-D9AA33A4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357-5D65-424E-8956-C6CA49E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26A-AFE8-46B4-831C-CC932E5B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520-2346-4D8A-8FE4-BAF5E73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C9F-C416-4E4D-A36F-35DCAE7C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860B-5252-4F1E-B138-BC170969765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2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DF1-C64F-4A2D-8344-3C298C05CF3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c7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hamrock@cypherpunks.to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ustedcomputing.org/" TargetMode="External"/><Relationship Id="rId3" Type="http://schemas.openxmlformats.org/officeDocument/2006/relationships/hyperlink" Target="http://www.cl.cam.ac.uk/~rja14/tcpa-faq.html" TargetMode="External"/><Relationship Id="rId4" Type="http://schemas.openxmlformats.org/officeDocument/2006/relationships/hyperlink" Target="http://www.ftp.cl.cam.ac.uk/ftp/users/rja14/toulouse.pdf" TargetMode="External"/><Relationship Id="rId5" Type="http://schemas.openxmlformats.org/officeDocument/2006/relationships/hyperlink" Target="http://www.msnbc.com/news/770511.asp?cp1=1" TargetMode="External"/><Relationship Id="rId6" Type="http://schemas.openxmlformats.org/officeDocument/2006/relationships/hyperlink" Target="http://www.uspto.gov/patft/" TargetMode="External"/><Relationship Id="rId7" Type="http://schemas.openxmlformats.org/officeDocument/2006/relationships/hyperlink" Target="http://www.microsoft.com/presspass/features/2002/jul02/07-01palladium.asp" TargetMode="External"/><Relationship Id="rId8" Type="http://schemas.openxmlformats.org/officeDocument/2006/relationships/hyperlink" Target="http://thomas.loc.gov/cgi-bin/query/z?c107:S.2048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Business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use of unlicensed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Rights Management (DR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CD ripping and DivX cre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“analog ho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formation flow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C the core of the home entertainment center, growing overall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operational needs of law enforcement and intelligence services (FBI, Homeland, NSA, non-U.S. law enforcemen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Intern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ptographic oper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ing (SHA-1, H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 generation (RNG), post-whitening output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generation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key encrypt/decrypt (2048-bit 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encrypt/decrypt (3DES, A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key operations may be performed off-c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mper-resistant hash and key st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Key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rsement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RSA key generated at time of manufacture. Signed by manufacturer’s key, which is signed by the TCPA master key. Used to prove that the TPM is genu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user RSA keys certified by a “Privacy CA” at time of TPM activation. Used to identify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81480" y="2133720"/>
            <a:ext cx="2590920" cy="4343400"/>
          </a:xfrm>
          <a:prstGeom prst="rect">
            <a:avLst/>
          </a:prstGeom>
          <a:solidFill>
            <a:srgbClr val="969696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pre-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057400"/>
            <a:ext cx="1905120" cy="45720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 boot bloc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19520"/>
            <a:ext cx="1600200" cy="6858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BI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9718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733920"/>
            <a:ext cx="1600200" cy="7617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ptio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OM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388620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4724280"/>
            <a:ext cx="1600200" cy="91440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boot load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495288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5791320"/>
            <a:ext cx="1676520" cy="53316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M kern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6477120"/>
            <a:ext cx="609480" cy="228600"/>
          </a:xfrm>
          <a:prstGeom prst="flowChartOffpage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1" idx="2"/>
            <a:endCxn id="122" idx="1"/>
          </p:cNvCxnSpPr>
          <p:nvPr/>
        </p:nvCxnSpPr>
        <p:spPr>
          <a:xfrm flipH="1">
            <a:off x="2628360" y="2514240"/>
            <a:ext cx="76680" cy="30564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1" name=""/>
          <p:cNvCxnSpPr>
            <a:stCxn id="122" idx="4"/>
            <a:endCxn id="124" idx="1"/>
          </p:cNvCxnSpPr>
          <p:nvPr/>
        </p:nvCxnSpPr>
        <p:spPr>
          <a:xfrm>
            <a:off x="2628720" y="350496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2" name=""/>
          <p:cNvCxnSpPr>
            <a:stCxn id="124" idx="4"/>
            <a:endCxn id="126" idx="1"/>
          </p:cNvCxnSpPr>
          <p:nvPr/>
        </p:nvCxnSpPr>
        <p:spPr>
          <a:xfrm>
            <a:off x="2628720" y="4495320"/>
            <a:ext cx="1080" cy="22932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3" name=""/>
          <p:cNvCxnSpPr>
            <a:stCxn id="126" idx="4"/>
            <a:endCxn id="128" idx="1"/>
          </p:cNvCxnSpPr>
          <p:nvPr/>
        </p:nvCxnSpPr>
        <p:spPr>
          <a:xfrm>
            <a:off x="2628720" y="5638680"/>
            <a:ext cx="3852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4" name=""/>
          <p:cNvCxnSpPr>
            <a:stCxn id="128" idx="4"/>
            <a:endCxn id="129" idx="0"/>
          </p:cNvCxnSpPr>
          <p:nvPr/>
        </p:nvCxnSpPr>
        <p:spPr>
          <a:xfrm>
            <a:off x="2666520" y="6324480"/>
            <a:ext cx="1080" cy="1533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35" name=""/>
          <p:cNvCxnSpPr>
            <a:stCxn id="122" idx="5"/>
            <a:endCxn id="123" idx="1"/>
          </p:cNvCxnSpPr>
          <p:nvPr/>
        </p:nvCxnSpPr>
        <p:spPr>
          <a:xfrm>
            <a:off x="3265560" y="3162240"/>
            <a:ext cx="237384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4" idx="5"/>
            <a:endCxn id="125" idx="1"/>
          </p:cNvCxnSpPr>
          <p:nvPr/>
        </p:nvCxnSpPr>
        <p:spPr>
          <a:xfrm>
            <a:off x="3265560" y="411444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27" idx="1"/>
          </p:cNvCxnSpPr>
          <p:nvPr/>
        </p:nvCxnSpPr>
        <p:spPr>
          <a:xfrm>
            <a:off x="3265560" y="5181120"/>
            <a:ext cx="23738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5638680" y="5791320"/>
            <a:ext cx="182880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8" idx="5"/>
            <a:endCxn id="138" idx="1"/>
          </p:cNvCxnSpPr>
          <p:nvPr/>
        </p:nvCxnSpPr>
        <p:spPr>
          <a:xfrm flipV="1">
            <a:off x="3335400" y="6019560"/>
            <a:ext cx="2304000" cy="388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9880" y="3886200"/>
            <a:ext cx="1676520" cy="2514600"/>
          </a:xfrm>
          <a:prstGeom prst="rect">
            <a:avLst/>
          </a:prstGeom>
          <a:solidFill>
            <a:srgbClr val="cccccc">
              <a:alpha val="30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66"/>
                </a:solidFill>
                <a:latin typeface="Tahoma"/>
              </a:rPr>
              <a:t>Phase II: inside TPM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286000"/>
            <a:ext cx="2133720" cy="4114800"/>
          </a:xfrm>
          <a:prstGeom prst="rect">
            <a:avLst/>
          </a:prstGeom>
          <a:solidFill>
            <a:srgbClr val="969696">
              <a:alpha val="30000"/>
            </a:srgbClr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ahoma"/>
              </a:rPr>
              <a:t>TPM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057400"/>
            <a:ext cx="457200" cy="457200"/>
          </a:xfrm>
          <a:prstGeom prst="flowChartConnec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895480"/>
            <a:ext cx="1219320" cy="762120"/>
          </a:xfrm>
          <a:prstGeom prst="flowChartInputOutput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048120"/>
            <a:ext cx="1752840" cy="457200"/>
          </a:xfrm>
          <a:prstGeom prst="flowChartOnlineStorage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tore hash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67080"/>
            <a:ext cx="137160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RSA decrypt OS binary ke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ES decrypt OS binar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267080"/>
            <a:ext cx="1218960" cy="91440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oad 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286000"/>
            <a:ext cx="1447560" cy="342900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roved Hardware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HC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,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ial Number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S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4"/>
            <a:endCxn id="144" idx="1"/>
          </p:cNvCxnSpPr>
          <p:nvPr/>
        </p:nvCxnSpPr>
        <p:spPr>
          <a:xfrm>
            <a:off x="3047760" y="2514600"/>
            <a:ext cx="1080" cy="38160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1" name=""/>
          <p:cNvCxnSpPr>
            <a:stCxn id="145" idx="2"/>
            <a:endCxn id="146" idx="0"/>
          </p:cNvCxnSpPr>
          <p:nvPr/>
        </p:nvCxnSpPr>
        <p:spPr>
          <a:xfrm flipH="1">
            <a:off x="6476760" y="3505320"/>
            <a:ext cx="38880" cy="7624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2" name=""/>
          <p:cNvCxnSpPr>
            <a:stCxn id="146" idx="1"/>
            <a:endCxn id="147" idx="3"/>
          </p:cNvCxnSpPr>
          <p:nvPr/>
        </p:nvCxnSpPr>
        <p:spPr>
          <a:xfrm flipH="1">
            <a:off x="5181120" y="4723920"/>
            <a:ext cx="610560" cy="1080"/>
          </a:xfrm>
          <a:prstGeom prst="straightConnector1">
            <a:avLst/>
          </a:prstGeom>
          <a:ln w="9360">
            <a:solidFill>
              <a:srgbClr val="336666"/>
            </a:solidFill>
            <a:miter/>
          </a:ln>
        </p:spPr>
      </p:cxnSp>
      <p:cxnSp>
        <p:nvCxnSpPr>
          <p:cNvPr id="153" name=""/>
          <p:cNvCxnSpPr>
            <a:stCxn id="149" idx="4"/>
            <a:endCxn id="148" idx="1"/>
          </p:cNvCxnSpPr>
          <p:nvPr/>
        </p:nvCxnSpPr>
        <p:spPr>
          <a:xfrm>
            <a:off x="1752480" y="4000680"/>
            <a:ext cx="610560" cy="72432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1981080" y="5791320"/>
            <a:ext cx="1600200" cy="53316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S is running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48" idx="2"/>
            <a:endCxn id="154" idx="0"/>
          </p:cNvCxnSpPr>
          <p:nvPr/>
        </p:nvCxnSpPr>
        <p:spPr>
          <a:xfrm flipH="1">
            <a:off x="2780640" y="5181480"/>
            <a:ext cx="191160" cy="61056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56" name=""/>
          <p:cNvCxnSpPr>
            <a:stCxn id="144" idx="5"/>
            <a:endCxn id="145" idx="1"/>
          </p:cNvCxnSpPr>
          <p:nvPr/>
        </p:nvCxnSpPr>
        <p:spPr>
          <a:xfrm>
            <a:off x="3533400" y="3276360"/>
            <a:ext cx="21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1"/>
            <a:endCxn id="148" idx="3"/>
          </p:cNvCxnSpPr>
          <p:nvPr/>
        </p:nvCxnSpPr>
        <p:spPr>
          <a:xfrm flipH="1">
            <a:off x="3580560" y="4723920"/>
            <a:ext cx="38196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Known Initial St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S is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I cards are TCPA-appro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MA devices do not enable unapproved access to operating 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kernel-level debugger is loa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list of undesirable applications is available for process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TCPA operat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: Palladium (DRM OS pat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: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OS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secure time counter (no turning back the system clock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chronize system time against authenticated online time serv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HCL and SRL updates over the Intern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e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rimary application loader protection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da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refuse to load a non-TCPA approved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”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S will load a non-approved application, sending SIGCOMP to all loaded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pplication Loader Protection Modes Comparis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14400" y="2209680"/>
          <a:ext cx="8001000" cy="416268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28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tory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”</a:t>
                      </a:r>
                      <a:endParaRPr b="0" lang="en-US" sz="3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hashes application, stores hash in TPM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TCPA-approved applications not listed on a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application on SRL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loads non-approved applic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. TCP applications receive SIGCOMP, zeroize their operating RAM, and shut down.</a:t>
                      </a:r>
                      <a:endParaRPr b="0" lang="en-US" sz="17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 Application Initial Tas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362320"/>
            <a:ext cx="1600200" cy="6094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loade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133720"/>
            <a:ext cx="121932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hashes in TPM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2133720"/>
            <a:ext cx="106668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platform ID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133720"/>
            <a:ext cx="1143000" cy="106668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license duration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4648320"/>
            <a:ext cx="137160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SRL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648320"/>
            <a:ext cx="190512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Verify mandatory applications are running (Spyware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648320"/>
            <a:ext cx="1523880" cy="1447560"/>
          </a:xfrm>
          <a:prstGeom prst="flowChartProcess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Obtain fresh Document Revocation List (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DRL</a:t>
            </a: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648320"/>
            <a:ext cx="1219320" cy="144756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RL Serve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13372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3429000"/>
            <a:ext cx="990720" cy="1295280"/>
          </a:xfrm>
          <a:prstGeom prst="flowChartMagneticDisk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DRL 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7" idx="3"/>
            <a:endCxn id="168" idx="1"/>
          </p:cNvCxnSpPr>
          <p:nvPr/>
        </p:nvCxnSpPr>
        <p:spPr>
          <a:xfrm>
            <a:off x="1828800" y="2666520"/>
            <a:ext cx="38160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8" name=""/>
          <p:cNvCxnSpPr>
            <a:stCxn id="168" idx="3"/>
            <a:endCxn id="169" idx="1"/>
          </p:cNvCxnSpPr>
          <p:nvPr/>
        </p:nvCxnSpPr>
        <p:spPr>
          <a:xfrm>
            <a:off x="3428640" y="26665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79" name=""/>
          <p:cNvCxnSpPr>
            <a:stCxn id="169" idx="3"/>
            <a:endCxn id="170" idx="1"/>
          </p:cNvCxnSpPr>
          <p:nvPr/>
        </p:nvCxnSpPr>
        <p:spPr>
          <a:xfrm>
            <a:off x="4800240" y="2666520"/>
            <a:ext cx="22932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0" name=""/>
          <p:cNvCxnSpPr>
            <a:stCxn id="171" idx="3"/>
            <a:endCxn id="172" idx="1"/>
          </p:cNvCxnSpPr>
          <p:nvPr/>
        </p:nvCxnSpPr>
        <p:spPr>
          <a:xfrm>
            <a:off x="3276720" y="5371920"/>
            <a:ext cx="30528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1" name=""/>
          <p:cNvCxnSpPr>
            <a:stCxn id="172" idx="3"/>
            <a:endCxn id="173" idx="1"/>
          </p:cNvCxnSpPr>
          <p:nvPr/>
        </p:nvCxnSpPr>
        <p:spPr>
          <a:xfrm>
            <a:off x="54860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7620120" y="5334120"/>
            <a:ext cx="1447560" cy="838080"/>
          </a:xfrm>
          <a:prstGeom prst="flowChartTerminator">
            <a:avLst/>
          </a:prstGeom>
          <a:solidFill>
            <a:srgbClr val="fc7f6a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Application is ready for user.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5" idx="3"/>
            <a:endCxn id="173" idx="0"/>
          </p:cNvCxnSpPr>
          <p:nvPr/>
        </p:nvCxnSpPr>
        <p:spPr>
          <a:xfrm flipH="1">
            <a:off x="6552720" y="3428640"/>
            <a:ext cx="1029600" cy="122004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3" idx="3"/>
            <a:endCxn id="182" idx="1"/>
          </p:cNvCxnSpPr>
          <p:nvPr/>
        </p:nvCxnSpPr>
        <p:spPr>
          <a:xfrm>
            <a:off x="7314840" y="5372280"/>
            <a:ext cx="305640" cy="381600"/>
          </a:xfrm>
          <a:prstGeom prst="bentConnector3">
            <a:avLst>
              <a:gd name="adj1" fmla="val 50000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5" name=""/>
          <p:cNvCxnSpPr>
            <a:stCxn id="174" idx="4"/>
            <a:endCxn id="171" idx="1"/>
          </p:cNvCxnSpPr>
          <p:nvPr/>
        </p:nvCxnSpPr>
        <p:spPr>
          <a:xfrm>
            <a:off x="1599840" y="5371920"/>
            <a:ext cx="305640" cy="108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0" idx="2"/>
            <a:endCxn id="171" idx="0"/>
          </p:cNvCxnSpPr>
          <p:nvPr/>
        </p:nvCxnSpPr>
        <p:spPr>
          <a:xfrm rot="5400000">
            <a:off x="3371040" y="2419200"/>
            <a:ext cx="1448640" cy="3010680"/>
          </a:xfrm>
          <a:prstGeom prst="bentConnector3">
            <a:avLst>
              <a:gd name="adj1" fmla="val 49987"/>
            </a:avLst>
          </a:prstGeom>
          <a:ln w="15840">
            <a:solidFill>
              <a:srgbClr val="336666"/>
            </a:solidFill>
            <a:miter/>
          </a:ln>
        </p:spPr>
      </p:cxnSp>
      <p:cxnSp>
        <p:nvCxnSpPr>
          <p:cNvPr id="187" name=""/>
          <p:cNvCxnSpPr>
            <a:stCxn id="176" idx="2"/>
            <a:endCxn id="173" idx="0"/>
          </p:cNvCxnSpPr>
          <p:nvPr/>
        </p:nvCxnSpPr>
        <p:spPr>
          <a:xfrm flipH="1">
            <a:off x="6552720" y="4076640"/>
            <a:ext cx="1448640" cy="572400"/>
          </a:xfrm>
          <a:prstGeom prst="straightConnector1">
            <a:avLst/>
          </a:prstGeom>
          <a:ln w="15840">
            <a:solidFill>
              <a:srgbClr val="3366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ost-application 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hashes in T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application is licensed for the current mother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secure time against application license d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application-specific SRL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required applications are running. (Enforces Spyware licens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s current Document Revocation List (DRL) via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ic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owner of a computer from obtaining root acc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orce three levels of access privile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CPA members only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privileged access [platform owner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ivileged access [non-TCPA application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Stifling Com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me at this thinking about music, but then we realized that e-mail and documents were far more interesting domain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Bill Gates, Microso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ould create Word documents that could be read only in the next week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-- Steven Levy, MSNBC/News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How will the Law Help TCPA Stifle Competitio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vendors intend to wrap their file formats with D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: What does a federal prosecutor call an application that is compatible with a proprietary DRM-wrapped file form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7774"/>
                </a:solidFill>
                <a:latin typeface="Arial"/>
              </a:rPr>
              <a:t>Answer: An illegal infringement dev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equences of Ubiquitous Digital Rights Manag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s it illegal to create interoperable software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s authors of interoperable software to penalties of up to $500,000 and 5 years in prison (and double that for subsequent offens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aw is already on the books: Digital Millennium Copyright Act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858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oftware Authors’ Cho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create interoperable softw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nd 5 years in pr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Repo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ng State to Challeng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: operating system,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: challengers requesting state via the Internet (digital content servers, secure time servers, information authorization serv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porting to Remote Ent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 challengers can determine t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is in an approve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 of the machine does not have privileged access to the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 software are fully licensed with maintenance fees p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nd applications are unmod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pproved applications are 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Feature Enabl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e ongoing revenue stre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fle competition (DMC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eat the GP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e information invalid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intelligence col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law enforcement nee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and many m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98108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2514600"/>
            <a:ext cx="381240" cy="457200"/>
          </a:xfrm>
          <a:prstGeom prst="irregularSeal1">
            <a:avLst/>
          </a:prstGeom>
          <a:solidFill>
            <a:srgbClr val="99cccc"/>
          </a:solidFill>
          <a:ln w="158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feat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is developing a TCPA-compliant version of Lin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PL requires the result to be Open Sour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e code will compile and can be ver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: the source alone is useless without a TPM-specific certific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ed Fixes to the GP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software authors to provide whichever services are necessary to enable an application to operate as the user desi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Stallman’s “Free Speech” vs. “Free Beer” prin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M prevents application authors from providing the activation key even if they so desire. (Violation of the DM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 third parties to provide the serv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and Bob agree that Carol shall provide free beer to all comers in perpetuity. (Unenforceable Contr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formation Inva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queries Document Revocation List servers for the latest DR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s for placing a document on a DR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a compromised (unpaid) copy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by court order: Official Secrets Act, copyrighted material, danger to Homel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illegal content: pictures of women without veils in Muslim countries, copy control ciphers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umber of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erit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ucceed where previous efforts have fail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D (Intel, 1995-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CPU instruction sets (Intel, 1995-TCPA Phase I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ryptography Framework (HP, 199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cards on motherboard (IBM, ongo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elligence Colle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s signed by user keys allow activity corre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ly unique document IDs facilitate traffic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emptive information invalidation enables information flow contr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w Enforcement Nee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niable proof of autho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monitoring/trac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invalidation by court or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Law Enforcement access after public information invalidation for evidentiary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678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ll TCPA Meet Governmental Requi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talking to the government [...] T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overnments in the world, and not just the U.S. Government.”      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rio Juarez, Microsoft, Palladium (TCPA) Product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itz Hollings Bill: S. 20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BDPTA (formerly SSS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 “analog hole” with 2048-bit 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 encrypt keyboard input t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 2048 makes i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lleg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sell non-TCPA-compliant comput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iz: Fritz Hollings S. 2048 Penal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stion: what is the penalty a person selling a non-TCPA approved computer will face under the Hollings bi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ix-it” ti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onths in j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f27774"/>
                </a:solidFill>
                <a:latin typeface="Arial"/>
              </a:rPr>
              <a:t>A $500,000 fine and 5 years in prison for the first offense; double that for each subsequent offe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Palladium will be Released as Open Sourc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announced that Palladium’s source code will be pu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trying to be transparent in all this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im Allchin, Group Vice President, Windows, Microso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ake this as proof that Microsoft has changed its business pract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emain skeptic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iz: Why is Microsoft Releasing the Palladium Source Code?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estion: which of the following answers is correc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intends to place MS Office under the GPL in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ll release the Windows source code under the BSD license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has little choice but to release Palladium as Open Source because S. 2048 requir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The correct answer is 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27774"/>
                </a:solidFill>
                <a:latin typeface="Arial"/>
              </a:rPr>
              <a:t>S. 2048 requires that “the security system standards shall ensure [...] that any software portion of such standards is based on open source cod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of TPM’s is Volunt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thing I can guarantee is that [Palladium] will be 'off' by default, an opt-in technology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uart Okin, Security Officer, Microsoft, 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asoline in a car is an opt-in technolo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3809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uld an OS Vendor Block “Undesirable” Application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may provide security related updates to the OS Components that will be automatically downloaded onto your computer.  These security related updates may disable your ability to copy and/or play Secure Content and use other software on your computer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soft, Windows Media Player E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hase I: Digital Ho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 codes are in plaintext on the b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microprobed off the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Encrypted CPU instruction sets in TCPA Phase II (TPM inside CP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can select non-TCPA-approved OS for minimum functional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event non-approved OS from accessing CPU supervisor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will be new modes and new instructions.... A whole new class of processors not differentiated by speed, but security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offrey Strongin, A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 new hardware architecture involves some changes to CPUs which are significant from a functional perspective.” -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io Juarez,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ed in 1999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y TCPA Might Succe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r I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went alone. AMD publicly rejected Processor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advocates were not considered a serious thr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, AMD, Motorola, BIOS vendors, system vendors, and application vendors are all on bo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rong technical and legislativ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privacy groups were briefed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2680" y="3429000"/>
            <a:ext cx="8955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1066680" y="5486400"/>
            <a:ext cx="1981440" cy="380880"/>
          </a:xfrm>
          <a:prstGeom prst="borderCallout1">
            <a:avLst>
              <a:gd name="adj1" fmla="val 18750"/>
              <a:gd name="adj2" fmla="val -8333"/>
              <a:gd name="adj3" fmla="val 437495"/>
              <a:gd name="adj4" fmla="val -179648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Mobile Phon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-Enabled Platfor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5257800"/>
            <a:ext cx="1752480" cy="380880"/>
          </a:xfrm>
          <a:prstGeom prst="borderCallout1">
            <a:avLst>
              <a:gd name="adj1" fmla="val 18750"/>
              <a:gd name="adj2" fmla="val -8333"/>
              <a:gd name="adj3" fmla="val -300833"/>
              <a:gd name="adj4" fmla="val 176541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PD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247840"/>
            <a:ext cx="2133720" cy="419040"/>
          </a:xfrm>
          <a:prstGeom prst="borderCallout1">
            <a:avLst>
              <a:gd name="adj1" fmla="val 18750"/>
              <a:gd name="adj2" fmla="val -8333"/>
              <a:gd name="adj3" fmla="val 384092"/>
              <a:gd name="adj4" fmla="val 30632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Laptop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676520" cy="380880"/>
          </a:xfrm>
          <a:prstGeom prst="borderCallout1">
            <a:avLst>
              <a:gd name="adj1" fmla="val 18750"/>
              <a:gd name="adj2" fmla="val -8333"/>
              <a:gd name="adj3" fmla="val 370000"/>
              <a:gd name="adj4" fmla="val 163634"/>
            </a:avLst>
          </a:prstGeom>
          <a:solidFill>
            <a:srgbClr val="fc7f6a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End Resul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d result is a system with security similar to a closed-architecture system but with the flexibility of the open Windows platfor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hn Manferdelli, General Manager, Microsoft "Palladium" Business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Lucky Green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shamrock@cypherpunks.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ies will occur after DEF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alk to me during the c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orge Orwell,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usted Computing Platform Al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ww.trustedcomputing.or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Main Specifications Version 1.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PC Specific Implementation Specifications Version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Trusted Platform Module Protection Profile Version 1.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ss Anders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A / Palladium Frequently Asked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cl.cam.ac.uk/~rja14/tcpa-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in Open versus Closed Systems - The Dance of Boltzmann, Coase and Mo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www.ftp.cl.cam.ac.uk/ftp/users/rja14/toulouse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ven Levy, MSNBC/Newsweek, “The Big Secret”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www.msnbc.com/news/770511.asp?cp1=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’s DRM OS (Palladium) US Patent 6,330,670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uspto.gov/patft/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crosoft PressPass Q&amp;A Palla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www.microsoft.com/presspass/features/2002/jul02/07-01palladium.asp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 Broadband and Digital Television Promotion Act (S. 204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3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http://thomas.loc.gov/cgi-bin/query/z?c107:S.204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 Membership Profi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CPA is a forum of platform product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, Advanced Micro Devices (AMD), Motor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/Ch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enix/Award, American Megatrends (AMI), National Semicond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Sign, Wave Systems, RSA Security, Check Point, Certicom, Trend Micro, Symantec, Tripwire, Crypto AG [NS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, Ado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Dell, Gateway, Fujitsu, Samsung, Toshi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170+ Member Compan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5280" y="2004840"/>
          <a:ext cx="7696440" cy="4776840"/>
        </p:xfrm>
        <a:graphic>
          <a:graphicData uri="http://schemas.openxmlformats.org/drawingml/2006/table">
            <a:tbl>
              <a:tblPr/>
              <a:tblGrid>
                <a:gridCol w="1866960"/>
                <a:gridCol w="1943280"/>
                <a:gridCol w="1942920"/>
                <a:gridCol w="1943280"/>
              </a:tblGrid>
              <a:tr h="47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Degree Web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om Corp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360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r, Inc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Card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aero Technologie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System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icro Device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ec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ddin Knowledge System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hmic Research Ltd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xpress Company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Megatrend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us Security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L Rousset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um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trol Uruguaya S.A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mo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DATA AG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View Development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Stream Technology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ice Researc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com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aig Lt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eo Technology LLC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vium Networks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-Infosys Pte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berus Information Security Limited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com Corp.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Point Software Technologies Lt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FLOW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ysalis-ITS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arron Systems Incorporated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herKey Exchang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akware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Intelligence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gnie Européenne de Développement SA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l Electronics,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Computer Corporation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Elektronik Infosys GmbH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pto AG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gate ESM Oy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LINK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 Computer Corporation 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 Technologies Inc.</a:t>
                      </a:r>
                      <a:br>
                        <a:rPr sz="500"/>
                      </a:b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GAN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Innotech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al Persona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x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PCguard.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ryp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an Comm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ova Technology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ust Technologie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COM P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ntic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alibur Solutions,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GOS Development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GLOQ AB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cces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ress Technologies Inc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jitsu-Siemens-Comput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way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plu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trotter Soft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wlett-Packard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tachi, Ltd. PC Di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Secur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Softwa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SA.net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Tech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Alink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er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eon Technologies Asia Pacific Pte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Core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yde Software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ity Scienc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ok Technologies L.L.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Business Machin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 Service Consultants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Dynamic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Security 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Trust Technologie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meg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ten Chase Applied Research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corp Ltd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ware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works Technologie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 (SHENZHEN) R&amp;D Center, Legend Group Lt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xig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 Audio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ronic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SIL Consult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Systems Flash Disk Pione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S Enterpris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vision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ive Media Group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DNA Incorpora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ogic Co.,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xis Biometrics Co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n Electronic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c International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-Mind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ol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Semiconductor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ipher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S Limite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Nanny Software International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ctiv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Atmosphere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Octav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Secure Software Canad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ssociat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Trend Technolog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ll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id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Micro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 Asia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 Guardia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s Semiconducto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enix Technologies, Ltd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jnenburg Custom Chips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on Digital Hardwar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waterhouse Cooper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sm Resourc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Team Computer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 Data Security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bow Technologie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theon Company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-Net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trike B.V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A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Net, Incorporated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LINK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M MORPH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RELTO Enterprises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SUNG ELECTRONICS CO.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 Institute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lumberger, Smart Card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Applications International Co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ton Technologies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 Microsystem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ra Communications AB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ant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Computing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e Systems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mens A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x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YRUS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H Communications 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icrosystems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icroelectronic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antec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 Technologies, In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r Software Corp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les e-Security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Certain, LLC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 Systems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d Micro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wir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pen Technologies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Time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ec Solutions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stpoint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N Entertainment Corporation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ze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maco Safeware AG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Cert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Safe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dicom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sign, Inc. 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point Engineering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ire Advanced Data Security Ltd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 Systems Corp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or Nixdorf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Magic, Inc.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Vista Corporation</a:t>
                      </a: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190440"/>
            <a:ext cx="73911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CPA’s Technology (Phase 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Platform Module (TPM), aka the “Fritz Chip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er resistant chip to be included on all future motherbo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mount; either a separate part or integrated into the chip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2777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Criteria EAL3 [augmented] cer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9718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Functionality Categ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PM Measure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yptographic ope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rocess has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4:21:27Z</dcterms:created>
  <dc:creator>Lucky Green</dc:creator>
  <dc:description/>
  <dc:language>en-US</dc:language>
  <cp:lastModifiedBy>Lucky Green</cp:lastModifiedBy>
  <dcterms:modified xsi:type="dcterms:W3CDTF">2002-07-10T15:33:49Z</dcterms:modified>
  <cp:revision>139</cp:revision>
  <dc:subject/>
  <dc:title>TCPA: the mother(board) of all Big Brothers</dc:title>
</cp:coreProperties>
</file>