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9560-1478-4D72-9ECF-928EB3A13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EB5D-A35D-4484-86A1-91D33A2A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64F2-CD9B-45D1-8423-FF0A74AC9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71BE-4DB4-475B-8EA6-8EABC1695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1E25-3A14-439A-85DD-0B089778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FE62-1839-4EAC-BAF9-8262E43F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3179-9FB8-4F7E-B524-E083B694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E335-BA85-4BD4-A8D9-B59104CD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DAD5-94AA-48B7-88D1-1D812163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C5B6-3B6E-4914-935D-BD00D1F7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BA99-C4ED-49C8-9003-0D3263CD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CD58-8F88-4E34-9605-2320785F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8246-E5AA-443F-8884-7FFEF4D7F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2743200"/>
            <a:ext cx="7010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ack In The Box Security Conference 6th October 200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9144000" cy="1473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895480" y="4572000"/>
            <a:ext cx="3181320" cy="639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Antivirus detection techniqu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295280"/>
            <a:ext cx="83059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 detec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ature sc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eric de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racteristic and behavior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ometric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42670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detec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 of Artificial Intelligence (Neural networ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assembling virus/worm code (Oops... reverse engineering¿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Antivirus detection techniqu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295280"/>
            <a:ext cx="83059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ature sc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arch for a unique string or sequence of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vily rely on virus pattern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able to identify the type of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oming slow in the future as the amount of viruses/worms inc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886200"/>
            <a:ext cx="815328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ic decry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able to obtain decrypted content without performing crypt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ed problem using e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ymorphic virus must decrypt its body immediately when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be bypassed by preventing linear decryption or desig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ymorphic virus to analyze its environment (E.g. keystroke trigge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Antivirus detection techniqu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295280"/>
            <a:ext cx="84582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acteristic and behaviora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aracteristic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am main entry point integrity in MZ/PE file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spicious jumps in program (E.g. 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struction pointed by E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spicious file version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spicious file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up key existence in Windows registry/shortcut files in star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havior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ing 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modules are loade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to get a rough idea on that appl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face exis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formance problem occurs when check other linked modules 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lps to detect 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LL injection phenomen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time of process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Antivirus detection techniqu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1295280"/>
            <a:ext cx="83059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metric detection (a.k.a. ‘Shape heuristic’ b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ymante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cks for alteration made to a fil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 rel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2971800"/>
            <a:ext cx="792468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 of Artificial Intelligence – Neural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s very complex algorithm, hard 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formance issue - quantum computer might solve the problem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4648320"/>
            <a:ext cx="845820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assembling virus/worm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suitable for dealing with viruses/worms written in high level langu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t another performance issue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Stealth virus design –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5000"/>
            </a:b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Breeding concept (Metamorphic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1523880"/>
            <a:ext cx="830556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 to breeding concept (Complete metamorphis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new challenge for the antivirus resear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ist since the DOS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ly capable to prevent itself from antivirus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roduce (compile) next generation from source instead of du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s the compiler on target infection to reproduce a new b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be applied using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ripting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remely hard to detect if implemented as Win32 w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Stealth virus design –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5000"/>
            </a:b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Breeding concept (Metamorphic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4724280"/>
            <a:ext cx="86104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metamorphic viruses/worms get into its w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ilt-in Compiler Class in .NET Framework’s Microsoft.CSharp name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*nix users install GCC for compiling apps from source tarb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1447920"/>
            <a:ext cx="830556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ques used in breeding concept viruses/w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use stored procedures and junk statements (source co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y encryption/decryption for high level languag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ndomize ‘junk code’ inser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tate symmetric key, stored procedures and stored junk 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loit the large collection of Win32 APIs (reuse, reuse and misuse :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arch for the existence of compiler on target inf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ploys either obfuscation technique or anti-emulation tech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Stealth virus design –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5000"/>
            </a:b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Breeding concept (Metamorphic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1905120"/>
            <a:ext cx="1752840" cy="1447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449568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the above metamorphism illustration, it clearly shows that there is no similar information in the inherited virus/worm. Thus, signature-based detection does not work under such circum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0800000">
            <a:off x="2971440" y="2133720"/>
            <a:ext cx="609480" cy="9144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0800000">
            <a:off x="5638680" y="2133720"/>
            <a:ext cx="609840" cy="9144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4290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eneration of metamorphic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34290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eneration of metamorphic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3352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eneration of metamorphic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13716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llustration of metamorphism in computer viruses/w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2057400"/>
            <a:ext cx="304560" cy="380880"/>
          </a:xfrm>
          <a:prstGeom prst="lightningBolt">
            <a:avLst/>
          </a:prstGeom>
          <a:solidFill>
            <a:srgbClr val="df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2590920"/>
            <a:ext cx="304920" cy="380880"/>
          </a:xfrm>
          <a:prstGeom prst="lightningBolt">
            <a:avLst/>
          </a:prstGeom>
          <a:solidFill>
            <a:srgbClr val="df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05120" y="2209680"/>
            <a:ext cx="304560" cy="381240"/>
          </a:xfrm>
          <a:prstGeom prst="lightningBolt">
            <a:avLst/>
          </a:prstGeom>
          <a:solidFill>
            <a:srgbClr val="df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2743200"/>
            <a:ext cx="304920" cy="380880"/>
          </a:xfrm>
          <a:prstGeom prst="lightningBolt">
            <a:avLst/>
          </a:prstGeom>
          <a:solidFill>
            <a:srgbClr val="df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38280" y="2133720"/>
            <a:ext cx="304920" cy="380880"/>
          </a:xfrm>
          <a:prstGeom prst="lightningBolt">
            <a:avLst/>
          </a:prstGeom>
          <a:solidFill>
            <a:srgbClr val="df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2819520"/>
            <a:ext cx="304560" cy="380880"/>
          </a:xfrm>
          <a:prstGeom prst="lightningBolt">
            <a:avLst/>
          </a:prstGeom>
          <a:solidFill>
            <a:srgbClr val="df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2895480"/>
            <a:ext cx="304920" cy="381240"/>
          </a:xfrm>
          <a:prstGeom prst="lightningBolt">
            <a:avLst/>
          </a:prstGeom>
          <a:solidFill>
            <a:srgbClr val="df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981080"/>
            <a:ext cx="304920" cy="381240"/>
          </a:xfrm>
          <a:prstGeom prst="lightningBolt">
            <a:avLst/>
          </a:prstGeom>
          <a:solidFill>
            <a:srgbClr val="df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2971800"/>
            <a:ext cx="304560" cy="380880"/>
          </a:xfrm>
          <a:prstGeom prst="lightningBolt">
            <a:avLst/>
          </a:prstGeom>
          <a:solidFill>
            <a:srgbClr val="df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2362320"/>
            <a:ext cx="304920" cy="380880"/>
          </a:xfrm>
          <a:prstGeom prst="lightningBolt">
            <a:avLst/>
          </a:prstGeom>
          <a:solidFill>
            <a:srgbClr val="df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1905120"/>
            <a:ext cx="1752480" cy="1447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1905120"/>
            <a:ext cx="1752840" cy="1447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33920" y="1905120"/>
            <a:ext cx="457200" cy="380880"/>
          </a:xfrm>
          <a:prstGeom prst="sun">
            <a:avLst>
              <a:gd name="adj" fmla="val 25000"/>
            </a:avLst>
          </a:prstGeom>
          <a:solidFill>
            <a:srgbClr val="ee3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1905120"/>
            <a:ext cx="457200" cy="380880"/>
          </a:xfrm>
          <a:prstGeom prst="sun">
            <a:avLst>
              <a:gd name="adj" fmla="val 25000"/>
            </a:avLst>
          </a:prstGeom>
          <a:solidFill>
            <a:srgbClr val="ee3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1981080"/>
            <a:ext cx="457200" cy="381240"/>
          </a:xfrm>
          <a:prstGeom prst="sun">
            <a:avLst>
              <a:gd name="adj" fmla="val 25000"/>
            </a:avLst>
          </a:prstGeom>
          <a:solidFill>
            <a:srgbClr val="ee3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2971800"/>
            <a:ext cx="457200" cy="380880"/>
          </a:xfrm>
          <a:prstGeom prst="sun">
            <a:avLst>
              <a:gd name="adj" fmla="val 25000"/>
            </a:avLst>
          </a:prstGeom>
          <a:solidFill>
            <a:srgbClr val="ee3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2895480"/>
            <a:ext cx="457200" cy="381240"/>
          </a:xfrm>
          <a:prstGeom prst="sun">
            <a:avLst>
              <a:gd name="adj" fmla="val 25000"/>
            </a:avLst>
          </a:prstGeom>
          <a:solidFill>
            <a:srgbClr val="ee3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419720" y="2743200"/>
            <a:ext cx="457200" cy="380880"/>
          </a:xfrm>
          <a:prstGeom prst="sun">
            <a:avLst>
              <a:gd name="adj" fmla="val 25000"/>
            </a:avLst>
          </a:prstGeom>
          <a:solidFill>
            <a:srgbClr val="ee3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2362320"/>
            <a:ext cx="457200" cy="380880"/>
          </a:xfrm>
          <a:prstGeom prst="sun">
            <a:avLst>
              <a:gd name="adj" fmla="val 25000"/>
            </a:avLst>
          </a:prstGeom>
          <a:solidFill>
            <a:srgbClr val="ee3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2286000"/>
            <a:ext cx="457200" cy="380880"/>
          </a:xfrm>
          <a:prstGeom prst="sun">
            <a:avLst>
              <a:gd name="adj" fmla="val 25000"/>
            </a:avLst>
          </a:prstGeom>
          <a:solidFill>
            <a:srgbClr val="ee3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2514600"/>
            <a:ext cx="457200" cy="380880"/>
          </a:xfrm>
          <a:prstGeom prst="sun">
            <a:avLst>
              <a:gd name="adj" fmla="val 25000"/>
            </a:avLst>
          </a:prstGeom>
          <a:solidFill>
            <a:srgbClr val="ee3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2209680"/>
            <a:ext cx="457200" cy="381240"/>
          </a:xfrm>
          <a:prstGeom prst="sun">
            <a:avLst>
              <a:gd name="adj" fmla="val 25000"/>
            </a:avLst>
          </a:prstGeom>
          <a:solidFill>
            <a:srgbClr val="ee3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86600" y="2514600"/>
            <a:ext cx="228600" cy="228600"/>
          </a:xfrm>
          <a:custGeom>
            <a:avLst/>
            <a:gdLst>
              <a:gd name="textAreaLeft" fmla="*/ 53640 w 228600"/>
              <a:gd name="textAreaRight" fmla="*/ 174960 w 228600"/>
              <a:gd name="textAreaTop" fmla="*/ 26640 h 228600"/>
              <a:gd name="textAreaBottom" fmla="*/ 143280 h 2286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162920" y="2133720"/>
            <a:ext cx="228600" cy="228600"/>
          </a:xfrm>
          <a:custGeom>
            <a:avLst/>
            <a:gdLst>
              <a:gd name="textAreaLeft" fmla="*/ 53640 w 228600"/>
              <a:gd name="textAreaRight" fmla="*/ 174960 w 228600"/>
              <a:gd name="textAreaTop" fmla="*/ 26640 h 228600"/>
              <a:gd name="textAreaBottom" fmla="*/ 143280 h 2286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53080" y="2666880"/>
            <a:ext cx="228600" cy="228600"/>
          </a:xfrm>
          <a:custGeom>
            <a:avLst/>
            <a:gdLst>
              <a:gd name="textAreaLeft" fmla="*/ 53640 w 228600"/>
              <a:gd name="textAreaRight" fmla="*/ 174960 w 228600"/>
              <a:gd name="textAreaTop" fmla="*/ 26640 h 228600"/>
              <a:gd name="textAreaBottom" fmla="*/ 143280 h 2286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10280" y="2971800"/>
            <a:ext cx="228600" cy="228600"/>
          </a:xfrm>
          <a:custGeom>
            <a:avLst/>
            <a:gdLst>
              <a:gd name="textAreaLeft" fmla="*/ 53640 w 228600"/>
              <a:gd name="textAreaRight" fmla="*/ 174960 w 228600"/>
              <a:gd name="textAreaTop" fmla="*/ 26640 h 228600"/>
              <a:gd name="textAreaBottom" fmla="*/ 143280 h 2286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477120" y="3048120"/>
            <a:ext cx="228600" cy="228600"/>
          </a:xfrm>
          <a:custGeom>
            <a:avLst/>
            <a:gdLst>
              <a:gd name="textAreaLeft" fmla="*/ 53640 w 228600"/>
              <a:gd name="textAreaRight" fmla="*/ 174960 w 228600"/>
              <a:gd name="textAreaTop" fmla="*/ 26640 h 228600"/>
              <a:gd name="textAreaBottom" fmla="*/ 143280 h 2286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43800" y="2057400"/>
            <a:ext cx="228600" cy="228600"/>
          </a:xfrm>
          <a:custGeom>
            <a:avLst/>
            <a:gdLst>
              <a:gd name="textAreaLeft" fmla="*/ 53640 w 228600"/>
              <a:gd name="textAreaRight" fmla="*/ 174960 w 228600"/>
              <a:gd name="textAreaTop" fmla="*/ 26640 h 228600"/>
              <a:gd name="textAreaBottom" fmla="*/ 143280 h 2286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620120" y="3048120"/>
            <a:ext cx="228600" cy="228600"/>
          </a:xfrm>
          <a:custGeom>
            <a:avLst/>
            <a:gdLst>
              <a:gd name="textAreaLeft" fmla="*/ 53640 w 228600"/>
              <a:gd name="textAreaRight" fmla="*/ 174960 w 228600"/>
              <a:gd name="textAreaTop" fmla="*/ 26640 h 228600"/>
              <a:gd name="textAreaBottom" fmla="*/ 143280 h 2286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543800" y="2514600"/>
            <a:ext cx="228600" cy="228600"/>
          </a:xfrm>
          <a:custGeom>
            <a:avLst/>
            <a:gdLst>
              <a:gd name="textAreaLeft" fmla="*/ 53640 w 228600"/>
              <a:gd name="textAreaRight" fmla="*/ 174960 w 228600"/>
              <a:gd name="textAreaTop" fmla="*/ 26640 h 228600"/>
              <a:gd name="textAreaBottom" fmla="*/ 143280 h 2286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0" y="2057400"/>
            <a:ext cx="228600" cy="228600"/>
          </a:xfrm>
          <a:custGeom>
            <a:avLst/>
            <a:gdLst>
              <a:gd name="textAreaLeft" fmla="*/ 53640 w 228600"/>
              <a:gd name="textAreaRight" fmla="*/ 174960 w 228600"/>
              <a:gd name="textAreaTop" fmla="*/ 26640 h 228600"/>
              <a:gd name="textAreaBottom" fmla="*/ 143280 h 2286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7120" y="2133720"/>
            <a:ext cx="228600" cy="228600"/>
          </a:xfrm>
          <a:custGeom>
            <a:avLst/>
            <a:gdLst>
              <a:gd name="textAreaLeft" fmla="*/ 53640 w 228600"/>
              <a:gd name="textAreaRight" fmla="*/ 174960 w 228600"/>
              <a:gd name="textAreaTop" fmla="*/ 26640 h 228600"/>
              <a:gd name="textAreaBottom" fmla="*/ 143280 h 2286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14400" y="4267080"/>
            <a:ext cx="160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¿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Stealth virus design –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5000"/>
            </a:b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Breeding concept (Metamorphic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47920" y="3048120"/>
            <a:ext cx="380880" cy="228600"/>
          </a:xfrm>
          <a:prstGeom prst="sun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057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1600200"/>
            <a:ext cx="1066680" cy="19051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27432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71600" y="2286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2514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914400" y="3276720"/>
            <a:ext cx="6858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4267080"/>
            <a:ext cx="26668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Original nucl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urce code (encryp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unk code (encryp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D5 key (raw hex. 32 by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4191120"/>
            <a:ext cx="2514600" cy="1447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905120" y="3581280"/>
            <a:ext cx="4952880" cy="457200"/>
          </a:xfrm>
          <a:custGeom>
            <a:avLst/>
            <a:gdLst>
              <a:gd name="textAreaLeft" fmla="*/ 1107000 w 4952880"/>
              <a:gd name="textAreaRight" fmla="*/ 3350520 w 495288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56" hR="21600" stAng="10800000" swAng="5400000"/>
                <a:lnTo>
                  <a:pt x="9784" y="0"/>
                </a:lnTo>
                <a:arcTo wR="9656" hR="21600" stAng="-5400000" swAng="2888987"/>
                <a:lnTo>
                  <a:pt x="20908" y="13571"/>
                </a:lnTo>
                <a:lnTo>
                  <a:pt x="19376" y="21600"/>
                </a:lnTo>
                <a:lnTo>
                  <a:pt x="16460" y="13571"/>
                </a:lnTo>
                <a:lnTo>
                  <a:pt x="18620" y="13571"/>
                </a:lnTo>
                <a:arcTo wR="9656" hR="21600" stAng="-2511013" swAng="-2878801"/>
                <a:lnTo>
                  <a:pt x="9720" y="0"/>
                </a:lnTo>
                <a:arcTo wR="9656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9656" hR="21600" stAng="10800000" swAng="5400000"/>
                <a:lnTo>
                  <a:pt x="9656" y="0"/>
                </a:lnTo>
                <a:arcTo wR="9656" hR="21600" stAng="-5400000" swAng="10186"/>
                <a:lnTo>
                  <a:pt x="9720" y="0"/>
                </a:lnTo>
                <a:arcTo wR="9656" hR="21600" stAng="-5410186" swAng="-5389814"/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152388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ndomized ‘junk code’ inser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48520" y="3124080"/>
            <a:ext cx="380880" cy="228600"/>
          </a:xfrm>
          <a:prstGeom prst="sun">
            <a:avLst>
              <a:gd name="adj" fmla="val 25000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72200" y="21337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43600" y="1676520"/>
            <a:ext cx="1066680" cy="19047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72200" y="28195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72200" y="2362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72200" y="2590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1828800"/>
            <a:ext cx="19051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67080" y="1828800"/>
            <a:ext cx="18288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267080" y="1828800"/>
            <a:ext cx="19051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2286000"/>
            <a:ext cx="236232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etamorphs thru regeneration of new program source code and recompi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Concept code make use of Compiler Class in .NET Framework runtime librar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48320" y="4267080"/>
            <a:ext cx="40384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New generation nucl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xture of source code + junk code (encryp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unk code sequence randomized (encryp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D5 key changed (raw hex. 32 by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4267080"/>
            <a:ext cx="4114800" cy="1295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6553080" y="3429000"/>
            <a:ext cx="9144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2280" y="13716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29400" y="1523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95280" y="5867280"/>
            <a:ext cx="64008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to n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generation will filter the junk code and reinsert again randomly with randomized sequence of encrypted junk code and new MD5 ke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213372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gram log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315200" y="190512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xture of program logic with junk instru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19810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86600" y="1981080"/>
            <a:ext cx="457200" cy="838440"/>
          </a:xfrm>
          <a:custGeom>
            <a:avLst/>
            <a:gdLst>
              <a:gd name="textAreaLeft" fmla="*/ 0 w 457200"/>
              <a:gd name="textAreaRight" fmla="*/ 164880 w 45720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48520" y="220968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72200" y="243828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72200" y="2666880"/>
            <a:ext cx="4572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Stealth virus design –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5000"/>
            </a:b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Breeding concept (Metamorphic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1447920"/>
            <a:ext cx="83059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ngth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ature for the entire file is different in each infection (E.g. MD5/SHA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le length also can be different in each inf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rd to detect even when running in AV emulator (generic decryp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 code is different from each breed when reverse engine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mal MZ/PE header when implemented as worm makes it truly st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" y="4267080"/>
            <a:ext cx="81532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ne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quires a compiler on target inf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roper implementation with high level languages can simplify th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extracting a virus signature from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Advanced ‘malware’ design</a:t>
            </a:r>
            <a:br>
              <a:rPr sz="5000"/>
            </a:b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(Current  and future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1371600"/>
            <a:ext cx="87631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ware == “malware”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 acronym for malicious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unch DDoS attacks, spam, steal information (E.g. serial keys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2971800"/>
            <a:ext cx="853452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desig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opt ‘social engineering’ practices to bypass non-IT professionals’ def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ke fil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ofed source address of an 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grate with non-malware or provide fake 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chnical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ymorphic, metamorphic, monolithic cod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get specific software vulnerability on victim’s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etitive self-killing and respa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LL in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295280"/>
            <a:ext cx="80010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ruses and w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olution of polymorphic viruses/w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virus detec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alth virus design - Breeding concept (Metamorph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anced ‘malware’ design (Current and fu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 viruses/worms removal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ending against ‘malware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approach to design antiviru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Presentation Overview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Advanced ‘malware’ design</a:t>
            </a:r>
            <a:br>
              <a:rPr sz="5000"/>
            </a:b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(Current  and future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1447920"/>
            <a:ext cx="8686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ture desig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passing Windows Firewall in Windows XP Service Pack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HKEY_LOCAL_MACHINE\SYSTEM\ControlSet001\Services\SharedAccess\Parameters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FirewallPolicy\StandardProfile\AuthorizedApplications\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 infected computers with dev. tools to provide compile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lace program file but providing original service and reuse the same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.g. Apache HTTP server on Win32 platform (apache.ex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original web server may be able to accept the command such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GET /index.html HTTP/1.1”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// Request for 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66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 a ‘malware’ can be designed to accept both command such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GET /index.html HTTP/1.1”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// Request for 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LIST C:\Documents and Settings\Administrator\My Documents\*.*”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// Malicious 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us, trojan horse can work without opening extra ports to avoid suspic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Advanced ‘malware’ design</a:t>
            </a:r>
            <a:br>
              <a:rPr sz="5000"/>
            </a:b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(Current  and future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1447920"/>
            <a:ext cx="83818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ture design techniques (continued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use information of infected computer (esp. Windows registry ke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- HKEY_CURRENT_USER\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- HKEY_LOCAL_MACHINE\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143000" y="2819520"/>
            <a:ext cx="6654960" cy="32986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600200" y="6095880"/>
            <a:ext cx="541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creenshot of Windows registry ke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Common viruses/worms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removal method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1447920"/>
            <a:ext cx="784836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rus removal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ify the entry point to point to the program’s real main entry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ip the virus code from the infected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ever, some virus overwrite/destroy file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33520" y="3124080"/>
            <a:ext cx="830556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m removal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sure the firewall is ena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ing task manager or command prompt to list the running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suspicious processes (E.g. high CPU utilization, unknown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te for the file of running process to examine fur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ill the process and quarantine it manually if suspic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ck Start Menu’s Startup folder and Windows registry for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date/patch software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Common viruses/worms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removal method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4267440" cy="4419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4876920" y="1600200"/>
            <a:ext cx="3962160" cy="44197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838080" y="6019920"/>
            <a:ext cx="33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sing ‘tasklist’ 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11430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napshots for process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Common viruses/worms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removal method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580240" cy="50198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04920" y="6095880"/>
            <a:ext cx="86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xamine for suspicious string value in all startup ke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Defending against ‘malware’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19320" y="1219320"/>
            <a:ext cx="6705360" cy="48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ic security guidelines to prevent from troubles :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firewall to provide a shield for local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sure the validity and integrity of received e-m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 not open or execute unknown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ways check for software updates or pa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date AV software’s virus pattern frequ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web browsers with better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ways run the system with ‘just sufficient’ privi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ways backup important information to other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ect confidential files with en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ver trust any online information comple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New approach to design antivirus system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1371600"/>
            <a:ext cx="830592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ing honeypot concept in antivirus - that’s sweet :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ure viruses to infect the honeytokens depl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tivirus system holds a master copy of honey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form automated analysis on changes being made (file forens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lps antivirus to extract virus signatures automatically (although not a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uce the need of virus pattern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2120" y="426708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 of this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effective against viruses, excluding worms and trojan hor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viruses may be coded to infect certain files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New approach to design antivirus system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1371600"/>
            <a:ext cx="73915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erse signature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ok for the clean files rather than the infected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er-side signature che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es not require virus pattern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rantine unknown files for maximum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4038480"/>
            <a:ext cx="76960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 of this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quires internet connection to scan ‘newly created/modified’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quires the server-side to have all signature for clean files a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New approach to design antivirus system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19320" y="3429000"/>
            <a:ext cx="16002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tivirus program (client-si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971800" y="3733920"/>
            <a:ext cx="3581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05720" y="3429000"/>
            <a:ext cx="16002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ML web service (server-si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219320" y="5105520"/>
            <a:ext cx="16002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tivirus program (client-si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19320" y="1752480"/>
            <a:ext cx="16002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tivirus program (client-si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895480" y="3733560"/>
            <a:ext cx="3657600" cy="1600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1981080"/>
            <a:ext cx="3581280" cy="17528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20235600">
            <a:off x="3657960" y="45716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erify file integrity (MD5/SHA1) using R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352680" y="32004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erify file integrity (MD5/SHA1) using R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579800">
            <a:off x="3580560" y="220932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erify file integrity (MD5/SHA1) using R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400800" y="3886200"/>
            <a:ext cx="152280" cy="1600200"/>
          </a:xfrm>
          <a:prstGeom prst="bevel">
            <a:avLst>
              <a:gd name="adj" fmla="val 12500"/>
            </a:avLst>
          </a:prstGeom>
          <a:solidFill>
            <a:srgbClr val="f0510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400800" y="1981080"/>
            <a:ext cx="152280" cy="1600200"/>
          </a:xfrm>
          <a:prstGeom prst="bevel">
            <a:avLst>
              <a:gd name="adj" fmla="val 12500"/>
            </a:avLst>
          </a:prstGeom>
          <a:solidFill>
            <a:srgbClr val="f0510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971800" y="3809880"/>
            <a:ext cx="152280" cy="1295640"/>
          </a:xfrm>
          <a:prstGeom prst="bevel">
            <a:avLst>
              <a:gd name="adj" fmla="val 12500"/>
            </a:avLst>
          </a:prstGeom>
          <a:solidFill>
            <a:srgbClr val="f0510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971800" y="2133720"/>
            <a:ext cx="152280" cy="1523880"/>
          </a:xfrm>
          <a:prstGeom prst="bevel">
            <a:avLst>
              <a:gd name="adj" fmla="val 12500"/>
            </a:avLst>
          </a:prstGeom>
          <a:solidFill>
            <a:srgbClr val="f0510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71800" y="5410080"/>
            <a:ext cx="152280" cy="1143000"/>
          </a:xfrm>
          <a:prstGeom prst="bevel">
            <a:avLst>
              <a:gd name="adj" fmla="val 12500"/>
            </a:avLst>
          </a:prstGeom>
          <a:solidFill>
            <a:srgbClr val="f0510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71800" y="1219320"/>
            <a:ext cx="152280" cy="685800"/>
          </a:xfrm>
          <a:prstGeom prst="bevel">
            <a:avLst>
              <a:gd name="adj" fmla="val 12500"/>
            </a:avLst>
          </a:prstGeom>
          <a:solidFill>
            <a:srgbClr val="f0510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981080" y="26668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629400" y="2438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81080" y="42670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594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629400" y="5029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1295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20021400">
            <a:off x="3794400" y="4358880"/>
            <a:ext cx="11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P Port 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1544400">
            <a:off x="3793320" y="2647440"/>
            <a:ext cx="119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P Port 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733920" y="37339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P Port 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495680" y="5943600"/>
            <a:ext cx="335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sic diagram of inverse signature approach antivirus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Summar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12952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ware design is more like an art of def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lware’ and computer security are inter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ing security requires cooperation from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Viruses and worm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066680"/>
            <a:ext cx="853452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viruses (File infectors / executable infect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gets MBR, boot sector and files (E.g. *.exe, *.com, *.ocx, *.dll, *.do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y on human activity to execute and perform inf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ly designed to destroy data or corrupt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ify 16-bit DOS MZ binary header / Win32 PE binary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ature of infected file changes (E.g. MD5/SHA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ected file length can increase, decrease or even the SA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er threat in Win32 environment, unlike older days in 16-bit 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Contact Informa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1600200"/>
            <a:ext cx="82296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act me via e-mail :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ss_teo2002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shadowx@vx.farm] mv  /home/yourself  /usr/tmp_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--------------------- Beginning of /usr/tmp_address 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Teo Sze Si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3+0 BSc. (Hons) in Software Engineering (Semester 6 stu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School Of Computing and Information Technology (SOCI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INTI College Malay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---------------------------------- End of file 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00200" y="495288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ank you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Viruses and worm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219320"/>
            <a:ext cx="77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ous ways for a computer virus to infect a f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2362320"/>
            <a:ext cx="457200" cy="152280"/>
          </a:xfrm>
          <a:prstGeom prst="cube">
            <a:avLst>
              <a:gd name="adj" fmla="val 25000"/>
            </a:avLst>
          </a:prstGeom>
          <a:solidFill>
            <a:srgbClr val="43e6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00200" y="2362320"/>
            <a:ext cx="533520" cy="1522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2514600"/>
            <a:ext cx="457200" cy="1522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OS MZ 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162920" y="23623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OS Real-mode Stub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2362320"/>
            <a:ext cx="380880" cy="152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2971800"/>
            <a:ext cx="457200" cy="152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62920" y="28954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E 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2362320"/>
            <a:ext cx="457200" cy="152280"/>
          </a:xfrm>
          <a:prstGeom prst="cube">
            <a:avLst>
              <a:gd name="adj" fmla="val 25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3429000"/>
            <a:ext cx="457200" cy="152280"/>
          </a:xfrm>
          <a:prstGeom prst="cube">
            <a:avLst>
              <a:gd name="adj" fmla="val 25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33526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cti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43200" y="2362320"/>
            <a:ext cx="2819520" cy="1522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05720" y="3886200"/>
            <a:ext cx="457200" cy="1522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37339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ctions (1, 2, … 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2362320"/>
            <a:ext cx="457200" cy="152280"/>
          </a:xfrm>
          <a:prstGeom prst="cube">
            <a:avLst>
              <a:gd name="adj" fmla="val 25000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05720" y="4343400"/>
            <a:ext cx="457200" cy="152280"/>
          </a:xfrm>
          <a:prstGeom prst="cube">
            <a:avLst>
              <a:gd name="adj" fmla="val 25000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38880" y="426708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irus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3352680"/>
            <a:ext cx="457200" cy="152640"/>
          </a:xfrm>
          <a:prstGeom prst="cube">
            <a:avLst>
              <a:gd name="adj" fmla="val 25000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4343400"/>
            <a:ext cx="457200" cy="152280"/>
          </a:xfrm>
          <a:prstGeom prst="cube">
            <a:avLst>
              <a:gd name="adj" fmla="val 25000"/>
            </a:avLst>
          </a:prstGeom>
          <a:solidFill>
            <a:srgbClr val="43e6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4343400"/>
            <a:ext cx="533520" cy="1522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4343400"/>
            <a:ext cx="380880" cy="152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4343400"/>
            <a:ext cx="457200" cy="152280"/>
          </a:xfrm>
          <a:prstGeom prst="cube">
            <a:avLst>
              <a:gd name="adj" fmla="val 25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4343400"/>
            <a:ext cx="1447920" cy="1522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4343400"/>
            <a:ext cx="457200" cy="152280"/>
          </a:xfrm>
          <a:prstGeom prst="cube">
            <a:avLst>
              <a:gd name="adj" fmla="val 25000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19720" y="4343400"/>
            <a:ext cx="1523880" cy="1522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1981080"/>
            <a:ext cx="373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a) Append virus code to end of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2971800"/>
            <a:ext cx="41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b) Insert virus code in beginning of th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3352680"/>
            <a:ext cx="457200" cy="152640"/>
          </a:xfrm>
          <a:prstGeom prst="cube">
            <a:avLst>
              <a:gd name="adj" fmla="val 25000"/>
            </a:avLst>
          </a:prstGeom>
          <a:solidFill>
            <a:srgbClr val="43e6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3352680"/>
            <a:ext cx="533520" cy="15264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38280" y="3352680"/>
            <a:ext cx="381240" cy="15264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43200" y="3352680"/>
            <a:ext cx="457200" cy="152640"/>
          </a:xfrm>
          <a:prstGeom prst="cube">
            <a:avLst>
              <a:gd name="adj" fmla="val 25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3352680"/>
            <a:ext cx="2819520" cy="1526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3962520"/>
            <a:ext cx="373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c) Insert virus code in middle of th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1981080"/>
            <a:ext cx="1905120" cy="259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4876920"/>
            <a:ext cx="77724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thods used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odify the main entry-point to point to the virus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Overwrite / insert jump instruction to the location pointed by the entry-point field in MZ/PE head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EPO (Entry-Point Obscuring) – Replace reference API calls to point to virus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05720" y="2057400"/>
            <a:ext cx="457200" cy="152280"/>
          </a:xfrm>
          <a:prstGeom prst="cube">
            <a:avLst>
              <a:gd name="adj" fmla="val 25000"/>
            </a:avLst>
          </a:prstGeom>
          <a:solidFill>
            <a:srgbClr val="43e6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Viruses and worm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066680"/>
            <a:ext cx="815328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worms (Stand-alone executables/scrip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es not target on other files, execute itself as an ow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target ‘already infected’ 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ility to spread automatically without user inter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ly designed to launch DDoS attack or send out spam m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loit software vulnerability (esp. buffer overrun / buffer overfl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ature can be constant or ever changing (depending on desig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ected file length can increase, decrease or even the SA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ite key(s) to Windows registry to start itself during boot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 threat in Win32 environment, mostly designed for Win32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Viruses and worm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1676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w common ways how worms spread across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3886200"/>
            <a:ext cx="1676520" cy="5335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ected compu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819520" y="2895480"/>
            <a:ext cx="3352680" cy="1067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2895480"/>
            <a:ext cx="236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ffer overflow exploit (E.g. DCOM RPC &amp; LS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4191120"/>
            <a:ext cx="3429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38862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m mails with virus attac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495288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bsite with malicious ActiveX or Javascript (E.g. cross-site scripting atta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4343400"/>
            <a:ext cx="335268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72200" y="2590920"/>
            <a:ext cx="1676520" cy="533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ctim compu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3886200"/>
            <a:ext cx="1676160" cy="5335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ctim comput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72200" y="5181480"/>
            <a:ext cx="1676520" cy="5335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ctim computer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Evolution of polymorphic viruses/worm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295280"/>
            <a:ext cx="83059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tation Engine (M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ility to generate symmetric key used for encryption/de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ility to generate junk code (E.g. NOP instruction in Assemb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ility to generate different decryp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3886200"/>
            <a:ext cx="81532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adopted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s UPX (Ultimate Packer for eXecutables) com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ify constant values of its own such as string or sequence of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, remove or replace earlier appended junk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Evolution of polymorphic viruses/worm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1905120"/>
            <a:ext cx="1752840" cy="1447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449568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the above polymorphism illustration, it clearly shows that partial information of the virus/worm retains. Thus, the retained information - virus shape (constant body in encrypted form) can be used as signature for det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2971440" y="2133720"/>
            <a:ext cx="609480" cy="9144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5638680" y="2133720"/>
            <a:ext cx="609840" cy="9144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34290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eneration of polymorphic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34290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eneration of polymorphic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3352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eneration of polymorphic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13716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llustration of polymorphism in computer viruses/w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2057400"/>
            <a:ext cx="304560" cy="380880"/>
          </a:xfrm>
          <a:prstGeom prst="lightningBolt">
            <a:avLst/>
          </a:prstGeom>
          <a:solidFill>
            <a:srgbClr val="df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2590920"/>
            <a:ext cx="304920" cy="380880"/>
          </a:xfrm>
          <a:prstGeom prst="lightningBolt">
            <a:avLst/>
          </a:prstGeom>
          <a:solidFill>
            <a:srgbClr val="df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2209680"/>
            <a:ext cx="304560" cy="381240"/>
          </a:xfrm>
          <a:prstGeom prst="lightningBolt">
            <a:avLst/>
          </a:prstGeom>
          <a:solidFill>
            <a:srgbClr val="df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2743200"/>
            <a:ext cx="304920" cy="380880"/>
          </a:xfrm>
          <a:prstGeom prst="lightningBolt">
            <a:avLst/>
          </a:prstGeom>
          <a:solidFill>
            <a:srgbClr val="df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38280" y="2133720"/>
            <a:ext cx="304920" cy="380880"/>
          </a:xfrm>
          <a:prstGeom prst="lightningBolt">
            <a:avLst/>
          </a:prstGeom>
          <a:solidFill>
            <a:srgbClr val="df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2819520"/>
            <a:ext cx="304560" cy="380880"/>
          </a:xfrm>
          <a:prstGeom prst="lightningBolt">
            <a:avLst/>
          </a:prstGeom>
          <a:solidFill>
            <a:srgbClr val="df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895480"/>
            <a:ext cx="304920" cy="381240"/>
          </a:xfrm>
          <a:prstGeom prst="lightningBolt">
            <a:avLst/>
          </a:prstGeom>
          <a:solidFill>
            <a:srgbClr val="df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1981080"/>
            <a:ext cx="304920" cy="381240"/>
          </a:xfrm>
          <a:prstGeom prst="lightningBolt">
            <a:avLst/>
          </a:prstGeom>
          <a:solidFill>
            <a:srgbClr val="df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2971800"/>
            <a:ext cx="304560" cy="380880"/>
          </a:xfrm>
          <a:prstGeom prst="lightningBolt">
            <a:avLst/>
          </a:prstGeom>
          <a:solidFill>
            <a:srgbClr val="df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2362320"/>
            <a:ext cx="304920" cy="380880"/>
          </a:xfrm>
          <a:prstGeom prst="lightningBolt">
            <a:avLst/>
          </a:prstGeom>
          <a:solidFill>
            <a:srgbClr val="dfff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33920" y="1905120"/>
            <a:ext cx="1752480" cy="1447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2057400"/>
            <a:ext cx="304920" cy="380880"/>
          </a:xfrm>
          <a:prstGeom prst="lightningBolt">
            <a:avLst/>
          </a:prstGeom>
          <a:solidFill>
            <a:srgbClr val="ee3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38480" y="2590920"/>
            <a:ext cx="304920" cy="380880"/>
          </a:xfrm>
          <a:prstGeom prst="lightningBolt">
            <a:avLst/>
          </a:prstGeom>
          <a:solidFill>
            <a:srgbClr val="ee3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2209680"/>
            <a:ext cx="304920" cy="381240"/>
          </a:xfrm>
          <a:prstGeom prst="lightningBolt">
            <a:avLst/>
          </a:prstGeom>
          <a:solidFill>
            <a:srgbClr val="ee3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743200"/>
            <a:ext cx="304920" cy="380880"/>
          </a:xfrm>
          <a:prstGeom prst="lightningBolt">
            <a:avLst/>
          </a:prstGeom>
          <a:solidFill>
            <a:srgbClr val="ee3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2133720"/>
            <a:ext cx="304560" cy="380880"/>
          </a:xfrm>
          <a:prstGeom prst="lightningBolt">
            <a:avLst/>
          </a:prstGeom>
          <a:solidFill>
            <a:srgbClr val="ee3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2819520"/>
            <a:ext cx="304920" cy="380880"/>
          </a:xfrm>
          <a:prstGeom prst="lightningBolt">
            <a:avLst/>
          </a:prstGeom>
          <a:solidFill>
            <a:srgbClr val="ee3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895480"/>
            <a:ext cx="304920" cy="381240"/>
          </a:xfrm>
          <a:prstGeom prst="lightningBolt">
            <a:avLst/>
          </a:prstGeom>
          <a:solidFill>
            <a:srgbClr val="ee3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1981080"/>
            <a:ext cx="304920" cy="381240"/>
          </a:xfrm>
          <a:prstGeom prst="lightningBolt">
            <a:avLst/>
          </a:prstGeom>
          <a:solidFill>
            <a:srgbClr val="ee3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2971800"/>
            <a:ext cx="304920" cy="380880"/>
          </a:xfrm>
          <a:prstGeom prst="lightningBolt">
            <a:avLst/>
          </a:prstGeom>
          <a:solidFill>
            <a:srgbClr val="ee3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2362320"/>
            <a:ext cx="304920" cy="380880"/>
          </a:xfrm>
          <a:prstGeom prst="lightningBolt">
            <a:avLst/>
          </a:prstGeom>
          <a:solidFill>
            <a:srgbClr val="ee3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1905120"/>
            <a:ext cx="1752840" cy="1447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2057400"/>
            <a:ext cx="304560" cy="380880"/>
          </a:xfrm>
          <a:prstGeom prst="lightningBolt">
            <a:avLst/>
          </a:prstGeom>
          <a:solidFill>
            <a:srgbClr val="2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29400" y="2590920"/>
            <a:ext cx="304920" cy="380880"/>
          </a:xfrm>
          <a:prstGeom prst="lightningBolt">
            <a:avLst/>
          </a:prstGeom>
          <a:solidFill>
            <a:srgbClr val="2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62920" y="2209680"/>
            <a:ext cx="304560" cy="381240"/>
          </a:xfrm>
          <a:prstGeom prst="lightningBolt">
            <a:avLst/>
          </a:prstGeom>
          <a:solidFill>
            <a:srgbClr val="2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86600" y="2743200"/>
            <a:ext cx="304920" cy="380880"/>
          </a:xfrm>
          <a:prstGeom prst="lightningBolt">
            <a:avLst/>
          </a:prstGeom>
          <a:solidFill>
            <a:srgbClr val="2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96080" y="2133720"/>
            <a:ext cx="304920" cy="380880"/>
          </a:xfrm>
          <a:prstGeom prst="lightningBolt">
            <a:avLst/>
          </a:prstGeom>
          <a:solidFill>
            <a:srgbClr val="2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20120" y="2819520"/>
            <a:ext cx="304560" cy="380880"/>
          </a:xfrm>
          <a:prstGeom prst="lightningBolt">
            <a:avLst/>
          </a:prstGeom>
          <a:solidFill>
            <a:srgbClr val="2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2895480"/>
            <a:ext cx="304920" cy="381240"/>
          </a:xfrm>
          <a:prstGeom prst="lightningBolt">
            <a:avLst/>
          </a:prstGeom>
          <a:solidFill>
            <a:srgbClr val="2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1981080"/>
            <a:ext cx="304920" cy="381240"/>
          </a:xfrm>
          <a:prstGeom prst="lightningBolt">
            <a:avLst/>
          </a:prstGeom>
          <a:solidFill>
            <a:srgbClr val="2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34320" y="2971800"/>
            <a:ext cx="304560" cy="380880"/>
          </a:xfrm>
          <a:prstGeom prst="lightningBolt">
            <a:avLst/>
          </a:prstGeom>
          <a:solidFill>
            <a:srgbClr val="2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2362320"/>
            <a:ext cx="304920" cy="380880"/>
          </a:xfrm>
          <a:prstGeom prst="lightningBolt">
            <a:avLst/>
          </a:prstGeom>
          <a:solidFill>
            <a:srgbClr val="2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4495680"/>
            <a:ext cx="761760" cy="1295640"/>
          </a:xfrm>
          <a:prstGeom prst="lightningBol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533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20000">
                <a:solidFill>
                  <a:srgbClr val="ffffff"/>
                </a:solidFill>
                <a:latin typeface="Arial"/>
              </a:rPr>
              <a:t>Evolution of polymorphic viruses/worm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295280"/>
            <a:ext cx="83059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ngth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gnature for the entire file is different in each infection (E.g. MD5/SHA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le length also can be different in each inf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es not affect the algorithm of the virus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ry hard to detect without using generic de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3886200"/>
            <a:ext cx="81532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ne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tion of program logic/routine/function code same with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crypted constant data may get detected during decry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istence of decryption routine increases heuristic engine suspi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6T06:09:53Z</dcterms:created>
  <dc:creator>ShadowX</dc:creator>
  <dc:description/>
  <dc:language>en-US</dc:language>
  <cp:lastModifiedBy>ShadowX</cp:lastModifiedBy>
  <dcterms:modified xsi:type="dcterms:W3CDTF">2004-10-04T04:29:56Z</dcterms:modified>
  <cp:revision>299</cp:revision>
  <dc:subject/>
  <dc:title>Slide 1</dc:title>
</cp:coreProperties>
</file>