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57BC-C391-4445-B904-CA3E476B0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9BE7-7294-4F69-B65F-10CCC21BF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1EEF-2014-4CB3-8E5D-2106888BB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B89E-E854-42D3-84FA-9A4BBDC6F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E243-867E-46F8-91E5-75B57D431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6CF5-6767-41D8-ADAD-7AD6E4E51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B9B4-BF2A-41C4-9464-F65430DB7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471E-E3EE-443C-8995-68ED21D64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1367-1473-48A4-8A96-0E4D5BE5C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900A-C6C7-4975-8301-8EEA2CED2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37E6-DC17-43BF-B027-7793902C0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B2FC-FDB8-422B-8373-1E39845B0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60841-B028-4E73-A71B-A8E87858458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mailto:cuc0@mail.ru" TargetMode="External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26828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dLib BT"/>
              </a:rPr>
              <a:t>Analisis Pre-Mor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2276640"/>
            <a:ext cx="48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analisis de los procesos en tiempo r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4437000"/>
            <a:ext cx="583416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36360" y="4581360"/>
            <a:ext cx="2594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icolas Wais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SN Security, In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ww.dsnsecurit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0"/>
            <a:ext cx="1258920" cy="6858000"/>
          </a:xfrm>
          <a:prstGeom prst="rect">
            <a:avLst/>
          </a:prstGeom>
          <a:solidFill>
            <a:srgbClr val="4657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58920" cy="7365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971640" y="476280"/>
            <a:ext cx="817236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476360" y="189000"/>
            <a:ext cx="302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ttp://www.</a:t>
            </a:r>
            <a:r>
              <a:rPr b="1" lang="en-US" sz="1400" spc="-1" strike="noStrike">
                <a:solidFill>
                  <a:srgbClr val="333399"/>
                </a:solidFill>
                <a:latin typeface="Verdana"/>
              </a:rPr>
              <a:t>dsnsecurity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547640" y="98100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El camino de una func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403280" y="1989000"/>
            <a:ext cx="4392720" cy="1189080"/>
          </a:xfrm>
          <a:prstGeom prst="rect">
            <a:avLst/>
          </a:prstGeom>
          <a:noFill/>
          <a:ln w="19080">
            <a:solidFill>
              <a:srgbClr val="4657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lamar una func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0x8048f40 &lt;usage+12&gt;:   push   %ea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0x8048f41 &lt;usage+13&gt;:   push   $0x804d2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0x8048f46 &lt;usage+18&gt;:   mov    0x8050364,%ea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0x8048f4b &lt;usage+23&gt;:   push   %ea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0x8048f4c &lt;usage+24&gt;:   </a:t>
            </a:r>
            <a:r>
              <a:rPr b="0" lang="en-US" sz="1200" spc="-1" strike="noStrike">
                <a:solidFill>
                  <a:srgbClr val="ff9900"/>
                </a:solidFill>
                <a:latin typeface="Verdana"/>
              </a:rPr>
              <a:t>call   0x8048978 &lt;fprintf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003640" y="4005360"/>
            <a:ext cx="3961080" cy="641520"/>
          </a:xfrm>
          <a:prstGeom prst="rect">
            <a:avLst/>
          </a:prstGeom>
          <a:noFill/>
          <a:ln w="19080">
            <a:solidFill>
              <a:srgbClr val="4657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x8048978 &lt;fprintf&gt;:       jmp    *0x80502d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x804897e &lt;fprintf+6&gt;:   push   $0x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x8048983 &lt;fprintf+11&gt;: jmp    0x8048928 &lt;_init+40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6659640" y="2421000"/>
            <a:ext cx="122400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867280" y="314172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101080" y="2133720"/>
            <a:ext cx="7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337 -0.00949 C 0.06302 -0.01158 0.0625 -0.01551 0.0625 -0.01551 C 0.05695 -0.01273 0.05313 -0.0169 0.04809 -0.01898 C 0.04323 -0.02338 0.04046 -0.03102 0.03473 -0.03334 C 0.02865 -0.03866 0.03143 -0.03704 0.02674 -0.03912 C 0.02292 -0.04491 0.01632 -0.04815 0.01059 -0.05 C 0.00573 -0.05324 0.00157 -0.05625 -0.00365 -0.05834 C -0.00973 -0.06366 -0.00209 -0.05764 -0.01077 -0.06181 C -0.01962 -0.06621 -0.02883 -0.07037 -0.03837 -0.07246 C -0.04306 -0.07477 -0.04705 -0.07639 -0.05192 -0.07732 C -0.06094 -0.08125 -0.07119 -0.07917 -0.08039 -0.07847 C -0.08646 -0.07755 -0.09202 -0.07593 -0.09827 -0.075 C -0.10244 -0.07315 -0.10643 -0.07222 -0.11077 -0.0713 C -0.11667 -0.06875 -0.12153 -0.06667 -0.12778 -0.06551 C -0.13785 -0.06019 -0.1474 -0.05625 -0.15817 -0.05463 C -0.16511 -0.05162 -0.17223 -0.04861 -0.17952 -0.0463 C -0.17466 -0.04421 -0.15973 -0.04746 -0.15817 -0.04746 C -0.14619 -0.04653 -0.14549 -0.05023 -0.13942 -0.04398 C -0.13646 -0.04097 -0.13646 -0.03959 -0.13403 -0.03449 C -0.13282 -0.03218 -0.13039 -0.02732 -0.13039 -0.02732 C -0.13074 -0.02616 -0.13056 -0.02477 -0.13126 -0.02384 C -0.13421 -0.01991 -0.14758 -0.01759 -0.15192 -0.01667 C -0.1566 -0.01459 -0.16146 -0.01273 -0.16615 -0.01065 C -0.16702 -0.01019 -0.16789 -0.00996 -0.16876 -0.00949 C -0.16962 -0.00903 -0.17258 -0.00834 -0.17153 -0.00834 C -0.16528 -0.0088 -0.15903 -0.00903 -0.15278 -0.00949 C -0.13438 -0.00903 -0.10278 -0.02755 -0.09567 0.00116 C -0.09619 0.00509 -0.09549 0.00856 -0.09827 0.01088 C -0.10174 0.01389 -0.10782 0.01412 -0.11164 0.01551 C -0.11789 0.01782 -0.12414 0.02106 -0.13039 0.02384 C -0.13438 0.02569 -0.12205 0.02315 -0.11789 0.02268 C -0.11112 0.02199 -0.0974 0.02037 -0.0974 0.02037 C -0.08282 0.01666 -0.0658 0.01643 -0.05087 0.01551 C -0.04514 0.01458 -0.04028 0.01273 -0.0349 0.01088 C -0.02726 0.00555 -0.00851 3.7037E-006 -5E-006 3.7037E-006 E">
                                      <p:cBhvr>
                                        <p:cTn id="188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52 -0.00092 C -0.00504 0.00579 -0.00504 0.01204 -0.0073 0.01806 C -0.01268 0.03195 -0.02431 0.03796 -0.0349 0.04074 C -0.04358 0.04306 -0.05191 0.04792 -0.06077 0.05023 C -0.06632 0.05486 -0.06129 0.05139 -0.07153 0.05371 C -0.08924 0.05764 -0.10487 0.05996 -0.12327 0.06088 C -0.14202 0.0669 -0.16355 0.06621 -0.1823 0.0669 C -0.18264 0.06713 -0.18785 0.06875 -0.18855 0.06921 C -0.18924 0.06991 -0.18959 0.0713 -0.19028 0.07176 C -0.19375 0.07431 -0.19879 0.07523 -0.20278 0.07639 C -0.2066 0.07894 -0.21042 0.08195 -0.21441 0.08357 C -0.21771 0.08634 -0.21945 0.09028 -0.22327 0.0919 C -0.22917 0.09931 -0.23334 0.10834 -0.23941 0.11574 C -0.2408 0.12107 -0.24445 0.12315 -0.24115 0.13009 C -0.23993 0.13241 -0.2375 0.1331 -0.23577 0.13472 C -0.22987 0.13982 -0.22309 0.14167 -0.21615 0.14306 C -0.20417 0.1419 -0.20834 0.1419 -0.20365 0.1419 E">
                                      <p:cBhvr>
                                        <p:cTn id="192" dur="2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1258920" cy="6858000"/>
          </a:xfrm>
          <a:prstGeom prst="rect">
            <a:avLst/>
          </a:prstGeom>
          <a:solidFill>
            <a:srgbClr val="4657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58920" cy="7365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971640" y="476280"/>
            <a:ext cx="817236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476360" y="189000"/>
            <a:ext cx="302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ttp://www.</a:t>
            </a:r>
            <a:r>
              <a:rPr b="1" lang="en-US" sz="1400" spc="-1" strike="noStrike">
                <a:solidFill>
                  <a:srgbClr val="333399"/>
                </a:solidFill>
                <a:latin typeface="Verdana"/>
              </a:rPr>
              <a:t>dsnsecurity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47640" y="98100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PLT (Procedure Linkage Tab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476360" y="1557360"/>
            <a:ext cx="741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47640" y="1700280"/>
            <a:ext cx="727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403280" y="1557360"/>
            <a:ext cx="7489800" cy="49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9900"/>
              </a:buClr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direcciona pic functions to absolute lo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9900"/>
              </a:buClr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ermite el lazy bi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LT0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ush GOT[1]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/* link_map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jmp  GOT[2]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/* funcion para resolver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LT1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jmp GOT[x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ush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jmp PLT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LT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jmp GOT[x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ush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jmp PLT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284720" y="4005360"/>
            <a:ext cx="3887640" cy="641520"/>
          </a:xfrm>
          <a:prstGeom prst="rect">
            <a:avLst/>
          </a:prstGeom>
          <a:solidFill>
            <a:srgbClr val="c0c0c0"/>
          </a:solidFill>
          <a:ln w="19080">
            <a:solidFill>
              <a:srgbClr val="4657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x8048978 &lt;fprintf&gt;:       jmp    </a:t>
            </a:r>
            <a:r>
              <a:rPr b="0" lang="en-US" sz="1200" spc="-1" strike="noStrike">
                <a:solidFill>
                  <a:srgbClr val="ff9900"/>
                </a:solidFill>
                <a:latin typeface="Arial"/>
              </a:rPr>
              <a:t>*0x80502d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x804897e &lt;fprintf+6&gt;:   push   </a:t>
            </a:r>
            <a:r>
              <a:rPr b="0" lang="en-US" sz="1200" spc="-1" strike="noStrike">
                <a:solidFill>
                  <a:srgbClr val="ff9900"/>
                </a:solidFill>
                <a:latin typeface="Arial"/>
              </a:rPr>
              <a:t>$0x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x8048983 &lt;fprintf+11&gt;: jmp    </a:t>
            </a:r>
            <a:r>
              <a:rPr b="0" lang="en-US" sz="1200" spc="-1" strike="noStrike">
                <a:solidFill>
                  <a:srgbClr val="ff9900"/>
                </a:solidFill>
                <a:latin typeface="Arial"/>
              </a:rPr>
              <a:t>0x8048928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_init+40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403280" y="2276640"/>
            <a:ext cx="6264360" cy="3889080"/>
          </a:xfrm>
          <a:prstGeom prst="rect">
            <a:avLst/>
          </a:prstGeom>
          <a:noFill/>
          <a:ln w="19080">
            <a:solidFill>
              <a:srgbClr val="1e03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1258920" cy="6858000"/>
          </a:xfrm>
          <a:prstGeom prst="rect">
            <a:avLst/>
          </a:prstGeom>
          <a:solidFill>
            <a:srgbClr val="4657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58920" cy="73656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971640" y="476280"/>
            <a:ext cx="817236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476360" y="189000"/>
            <a:ext cx="302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ttp://www.</a:t>
            </a:r>
            <a:r>
              <a:rPr b="1" lang="en-US" sz="1400" spc="-1" strike="noStrike">
                <a:solidFill>
                  <a:srgbClr val="333399"/>
                </a:solidFill>
                <a:latin typeface="Verdana"/>
              </a:rPr>
              <a:t>dsnsecurity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547640" y="112536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GOT (Global Offset Tab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476360" y="1557360"/>
            <a:ext cx="741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47640" y="1700280"/>
            <a:ext cx="727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2484360" y="2205000"/>
          <a:ext cx="6121080" cy="3168720"/>
        </p:xfrm>
        <a:graphic>
          <a:graphicData uri="http://schemas.openxmlformats.org/drawingml/2006/table">
            <a:tbl>
              <a:tblPr/>
              <a:tblGrid>
                <a:gridCol w="6121080"/>
              </a:tblGrid>
              <a:tr h="633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int to DYNAM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ink_ma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solution fun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3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1619280" y="2205000"/>
          <a:ext cx="744480" cy="3166920"/>
        </p:xfrm>
        <a:graphic>
          <a:graphicData uri="http://schemas.openxmlformats.org/drawingml/2006/table">
            <a:tbl>
              <a:tblPr/>
              <a:tblGrid>
                <a:gridCol w="744480"/>
              </a:tblGrid>
              <a:tr h="633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3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3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3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3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0"/>
            <a:ext cx="1258920" cy="6858000"/>
          </a:xfrm>
          <a:prstGeom prst="rect">
            <a:avLst/>
          </a:prstGeom>
          <a:solidFill>
            <a:srgbClr val="4657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58920" cy="7365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971640" y="476280"/>
            <a:ext cx="817236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476360" y="189000"/>
            <a:ext cx="302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ttp://www.</a:t>
            </a:r>
            <a:r>
              <a:rPr b="1" lang="en-US" sz="1400" spc="-1" strike="noStrike">
                <a:solidFill>
                  <a:srgbClr val="333399"/>
                </a:solidFill>
                <a:latin typeface="Verdana"/>
              </a:rPr>
              <a:t>dsnsecurity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547640" y="98100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Dos caminos de ejecuc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476360" y="1557360"/>
            <a:ext cx="741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547640" y="1700280"/>
            <a:ext cx="727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547640" y="1628640"/>
            <a:ext cx="13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suel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19280" y="2492280"/>
            <a:ext cx="3887640" cy="641520"/>
          </a:xfrm>
          <a:prstGeom prst="rect">
            <a:avLst/>
          </a:prstGeom>
          <a:noFill/>
          <a:ln w="19080">
            <a:solidFill>
              <a:srgbClr val="4657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x8048978 &lt;fprintf&gt;:       jmp    </a:t>
            </a:r>
            <a:r>
              <a:rPr b="0" lang="en-US" sz="1200" spc="-1" strike="noStrike">
                <a:solidFill>
                  <a:srgbClr val="ff9900"/>
                </a:solidFill>
                <a:latin typeface="Arial"/>
              </a:rPr>
              <a:t>*0x80502d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x804897e &lt;fprintf+6&gt;:   push   $0x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x8048983 &lt;fprintf+11&gt;: jmp    0x8048928 &lt;_init+40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7812000" y="2852640"/>
          <a:ext cx="1176120" cy="1270080"/>
        </p:xfrm>
        <a:graphic>
          <a:graphicData uri="http://schemas.openxmlformats.org/drawingml/2006/table">
            <a:tbl>
              <a:tblPr/>
              <a:tblGrid>
                <a:gridCol w="1176120"/>
              </a:tblGrid>
              <a:tr h="34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x400853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6588000" y="2852640"/>
          <a:ext cx="1175040" cy="1368360"/>
        </p:xfrm>
        <a:graphic>
          <a:graphicData uri="http://schemas.openxmlformats.org/drawingml/2006/table">
            <a:tbl>
              <a:tblPr/>
              <a:tblGrid>
                <a:gridCol w="1175040"/>
              </a:tblGrid>
              <a:tr h="35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x8052d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9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9900"/>
                          </a:solidFill>
                          <a:latin typeface="Verdana"/>
                        </a:rPr>
                        <a:t>0x8052d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0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x8052d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x8052e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8" name=""/>
          <p:cNvSpPr/>
          <p:nvPr/>
        </p:nvSpPr>
        <p:spPr>
          <a:xfrm>
            <a:off x="2700360" y="4365720"/>
            <a:ext cx="338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619280" y="4653000"/>
            <a:ext cx="3889440" cy="641520"/>
          </a:xfrm>
          <a:prstGeom prst="rect">
            <a:avLst/>
          </a:prstGeom>
          <a:noFill/>
          <a:ln w="19080">
            <a:solidFill>
              <a:srgbClr val="4657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0x4008536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fprintf&gt;:      push   %eb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x40085361 &lt;fprintf+1&gt;:  mov    %esp,%eb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x40085363 &lt;fprintf+3&gt;:  sub    $0x14,%es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19280" y="2133720"/>
            <a:ext cx="165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LT (ejecutabl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093080" y="2421000"/>
            <a:ext cx="18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GOT (ejecutabl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619280" y="4221000"/>
            <a:ext cx="288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printf  (lib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580000" y="2637000"/>
            <a:ext cx="100800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3276720" y="3500280"/>
            <a:ext cx="3311280" cy="100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0"/>
            <a:ext cx="1258920" cy="6858000"/>
          </a:xfrm>
          <a:prstGeom prst="rect">
            <a:avLst/>
          </a:prstGeom>
          <a:solidFill>
            <a:srgbClr val="4657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58920" cy="73656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971640" y="476280"/>
            <a:ext cx="817236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476360" y="189000"/>
            <a:ext cx="302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ttp://www.</a:t>
            </a:r>
            <a:r>
              <a:rPr b="1" lang="en-US" sz="1400" spc="-1" strike="noStrike">
                <a:solidFill>
                  <a:srgbClr val="333399"/>
                </a:solidFill>
                <a:latin typeface="Verdana"/>
              </a:rPr>
              <a:t>dsnsecurity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47640" y="98100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Dos caminos de ejecuc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476360" y="1557360"/>
            <a:ext cx="741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547640" y="1700280"/>
            <a:ext cx="727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547640" y="162864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No Resuel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619280" y="2492280"/>
            <a:ext cx="3887640" cy="641520"/>
          </a:xfrm>
          <a:prstGeom prst="rect">
            <a:avLst/>
          </a:prstGeom>
          <a:noFill/>
          <a:ln w="19080">
            <a:solidFill>
              <a:srgbClr val="4657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x8048978 &lt;fprintf&gt;:       jmp    </a:t>
            </a:r>
            <a:r>
              <a:rPr b="0" lang="en-US" sz="1200" spc="-1" strike="noStrike">
                <a:solidFill>
                  <a:srgbClr val="ff9900"/>
                </a:solidFill>
                <a:latin typeface="Arial"/>
              </a:rPr>
              <a:t>*0x80502d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0x804897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fprintf+6&gt;:   push   $0x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x8048983 &lt;fprintf+11&gt;: jmp    </a:t>
            </a:r>
            <a:r>
              <a:rPr b="0" lang="en-US" sz="1200" spc="-1" strike="noStrike">
                <a:solidFill>
                  <a:srgbClr val="00cc00"/>
                </a:solidFill>
                <a:latin typeface="Arial"/>
              </a:rPr>
              <a:t>0x804892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_init+40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7812000" y="2852640"/>
          <a:ext cx="1176480" cy="1270080"/>
        </p:xfrm>
        <a:graphic>
          <a:graphicData uri="http://schemas.openxmlformats.org/drawingml/2006/table">
            <a:tbl>
              <a:tblPr/>
              <a:tblGrid>
                <a:gridCol w="1176480"/>
              </a:tblGrid>
              <a:tr h="34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x0804897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6588000" y="2852640"/>
          <a:ext cx="1175040" cy="1368360"/>
        </p:xfrm>
        <a:graphic>
          <a:graphicData uri="http://schemas.openxmlformats.org/drawingml/2006/table">
            <a:tbl>
              <a:tblPr/>
              <a:tblGrid>
                <a:gridCol w="1175040"/>
              </a:tblGrid>
              <a:tr h="35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x8052d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9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9900"/>
                          </a:solidFill>
                          <a:latin typeface="Verdana"/>
                        </a:rPr>
                        <a:t>0x8052d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0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x8052d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x8052e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"/>
          <p:cNvSpPr/>
          <p:nvPr/>
        </p:nvSpPr>
        <p:spPr>
          <a:xfrm>
            <a:off x="2700360" y="4365720"/>
            <a:ext cx="338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619280" y="2133720"/>
            <a:ext cx="165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LT (ejecutabl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093080" y="2421000"/>
            <a:ext cx="18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GOT (ejecutabl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580000" y="2637000"/>
            <a:ext cx="100800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 flipV="1">
            <a:off x="5580000" y="2852280"/>
            <a:ext cx="100800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619280" y="4653000"/>
            <a:ext cx="3889440" cy="459000"/>
          </a:xfrm>
          <a:prstGeom prst="rect">
            <a:avLst/>
          </a:prstGeom>
          <a:noFill/>
          <a:ln w="19080">
            <a:solidFill>
              <a:srgbClr val="4657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cc00"/>
                </a:solidFill>
                <a:latin typeface="Arial"/>
              </a:rPr>
              <a:t>0x804892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_init+40&gt;:   pushl  </a:t>
            </a:r>
            <a:r>
              <a:rPr b="0" lang="en-US" sz="1200" spc="-1" strike="noStrike">
                <a:solidFill>
                  <a:srgbClr val="9900ff"/>
                </a:solidFill>
                <a:latin typeface="Arial"/>
              </a:rPr>
              <a:t>0x80502c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x804892e &lt;_init+46&gt;:   jmp    </a:t>
            </a:r>
            <a:r>
              <a:rPr b="0" lang="en-US" sz="1200" spc="-1" strike="noStrike">
                <a:solidFill>
                  <a:srgbClr val="9900ff"/>
                </a:solidFill>
                <a:latin typeface="Arial"/>
              </a:rPr>
              <a:t>*0x80502c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619280" y="4221000"/>
            <a:ext cx="273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LT entry 0 (ejecutabl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2195640" y="3213000"/>
            <a:ext cx="194472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7738920" y="4940280"/>
          <a:ext cx="1176480" cy="1270080"/>
        </p:xfrm>
        <a:graphic>
          <a:graphicData uri="http://schemas.openxmlformats.org/drawingml/2006/table">
            <a:tbl>
              <a:tblPr/>
              <a:tblGrid>
                <a:gridCol w="1176480"/>
              </a:tblGrid>
              <a:tr h="34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nk_m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sol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6515280" y="4940280"/>
          <a:ext cx="1174680" cy="1368360"/>
        </p:xfrm>
        <a:graphic>
          <a:graphicData uri="http://schemas.openxmlformats.org/drawingml/2006/table">
            <a:tbl>
              <a:tblPr/>
              <a:tblGrid>
                <a:gridCol w="1174680"/>
              </a:tblGrid>
              <a:tr h="35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x80502b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9900ff"/>
                          </a:solidFill>
                          <a:latin typeface="Verdana"/>
                        </a:rPr>
                        <a:t>0x80502c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9900ff"/>
                          </a:solidFill>
                          <a:latin typeface="Verdana"/>
                        </a:rPr>
                        <a:t>0x80502c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x80502c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6" name=""/>
          <p:cNvSpPr/>
          <p:nvPr/>
        </p:nvSpPr>
        <p:spPr>
          <a:xfrm>
            <a:off x="7093080" y="4437000"/>
            <a:ext cx="1798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rincipio de la GOT (ejecutabl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076720" y="5229360"/>
            <a:ext cx="136692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0" y="0"/>
            <a:ext cx="1258920" cy="6858000"/>
          </a:xfrm>
          <a:prstGeom prst="rect">
            <a:avLst/>
          </a:prstGeom>
          <a:solidFill>
            <a:srgbClr val="4657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58920" cy="73656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971640" y="476280"/>
            <a:ext cx="817236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476360" y="189000"/>
            <a:ext cx="302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ttp://www.</a:t>
            </a:r>
            <a:r>
              <a:rPr b="1" lang="en-US" sz="1400" spc="-1" strike="noStrike">
                <a:solidFill>
                  <a:srgbClr val="333399"/>
                </a:solidFill>
                <a:latin typeface="Verdana"/>
              </a:rPr>
              <a:t>dsnsecurity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547640" y="981000"/>
            <a:ext cx="705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Verdana"/>
              </a:rPr>
              <a:t>Relocation Entries (JMPREL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484360" y="2637000"/>
            <a:ext cx="482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lf32_R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9900"/>
              </a:buClr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_off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9900"/>
              </a:buClr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_inf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547640" y="1700280"/>
            <a:ext cx="712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el proceso de conexion de refrencias simbolicas con definiciones simbolica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0" y="0"/>
            <a:ext cx="1258920" cy="6858000"/>
          </a:xfrm>
          <a:prstGeom prst="rect">
            <a:avLst/>
          </a:prstGeom>
          <a:solidFill>
            <a:srgbClr val="4657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58920" cy="73656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971640" y="476280"/>
            <a:ext cx="817236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476360" y="189000"/>
            <a:ext cx="302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ttp://www.</a:t>
            </a:r>
            <a:r>
              <a:rPr b="1" lang="en-US" sz="1400" spc="-1" strike="noStrike">
                <a:solidFill>
                  <a:srgbClr val="333399"/>
                </a:solidFill>
                <a:latin typeface="Verdana"/>
              </a:rPr>
              <a:t>dsnsecurity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547640" y="692280"/>
            <a:ext cx="705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Verdana"/>
              </a:rPr>
              <a:t>Obteniendo la informac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580000" y="1989000"/>
            <a:ext cx="3095640" cy="459000"/>
          </a:xfrm>
          <a:prstGeom prst="rect">
            <a:avLst/>
          </a:prstGeom>
          <a:noFill/>
          <a:ln w="19080">
            <a:solidFill>
              <a:srgbClr val="4657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x8048928 &lt;_init+40&gt;:   push  </a:t>
            </a:r>
            <a:r>
              <a:rPr b="0" lang="en-US" sz="1200" spc="-1" strike="noStrike">
                <a:solidFill>
                  <a:srgbClr val="00cc00"/>
                </a:solidFill>
                <a:latin typeface="Arial"/>
              </a:rPr>
              <a:t>GOT[1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x804892e &lt;_init+46&gt;:   jmp     </a:t>
            </a:r>
            <a:r>
              <a:rPr b="0" lang="en-US" sz="1200" spc="-1" strike="noStrike">
                <a:solidFill>
                  <a:srgbClr val="ff9900"/>
                </a:solidFill>
                <a:latin typeface="Arial"/>
              </a:rPr>
              <a:t>*GOT[2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651640" y="1700280"/>
            <a:ext cx="273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LT entry 0 (ejecutabl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987640" y="2781360"/>
            <a:ext cx="4321080" cy="398880"/>
          </a:xfrm>
          <a:prstGeom prst="rect">
            <a:avLst/>
          </a:prstGeom>
          <a:noFill/>
          <a:ln w="9360">
            <a:solidFill>
              <a:srgbClr val="4657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resolv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rel_offse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cc00"/>
                </a:solidFill>
                <a:latin typeface="Arial"/>
              </a:rPr>
              <a:t>link_ma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547640" y="1989000"/>
            <a:ext cx="3888000" cy="641520"/>
          </a:xfrm>
          <a:prstGeom prst="rect">
            <a:avLst/>
          </a:prstGeom>
          <a:noFill/>
          <a:ln w="19080">
            <a:solidFill>
              <a:srgbClr val="4657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x8048978 &lt;fprintf&gt;:       jmp    *0x80502d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x804897e &lt;fprintf+6&gt;:   push   </a:t>
            </a:r>
            <a:r>
              <a:rPr b="0" lang="en-US" sz="1200" spc="-1" strike="noStrike">
                <a:solidFill>
                  <a:srgbClr val="9900ff"/>
                </a:solidFill>
                <a:latin typeface="Arial"/>
              </a:rPr>
              <a:t>$0x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x8048983 &lt;fprintf+11&gt;: jmp    0x8048928 &lt;_init+40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547640" y="1700280"/>
            <a:ext cx="165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LT (ejecutabl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2627280" y="3213000"/>
            <a:ext cx="201600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835280" y="4581360"/>
            <a:ext cx="1368360" cy="366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_offs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Verdana"/>
              <a:buChar char="&gt;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r_off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Verdana"/>
              <a:buChar char="&gt;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d3ce00"/>
                </a:solidFill>
                <a:latin typeface="Arial"/>
              </a:rPr>
              <a:t>r_inf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258920" y="414972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ff"/>
                </a:solidFill>
                <a:latin typeface="Arial"/>
              </a:rPr>
              <a:t>rel_offs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JMPR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7596360" y="3716280"/>
          <a:ext cx="1176120" cy="1270080"/>
        </p:xfrm>
        <a:graphic>
          <a:graphicData uri="http://schemas.openxmlformats.org/drawingml/2006/table">
            <a:tbl>
              <a:tblPr/>
              <a:tblGrid>
                <a:gridCol w="1176120"/>
              </a:tblGrid>
              <a:tr h="34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x0804897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9" name=""/>
          <p:cNvGraphicFramePr/>
          <p:nvPr/>
        </p:nvGraphicFramePr>
        <p:xfrm>
          <a:off x="6372360" y="3716280"/>
          <a:ext cx="1174680" cy="1368360"/>
        </p:xfrm>
        <a:graphic>
          <a:graphicData uri="http://schemas.openxmlformats.org/drawingml/2006/table">
            <a:tbl>
              <a:tblPr/>
              <a:tblGrid>
                <a:gridCol w="1174680"/>
              </a:tblGrid>
              <a:tr h="35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x8052d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9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0x8052d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0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x8052d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x8052e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0" name=""/>
          <p:cNvSpPr/>
          <p:nvPr/>
        </p:nvSpPr>
        <p:spPr>
          <a:xfrm>
            <a:off x="6877080" y="3284640"/>
            <a:ext cx="18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GOT (ejecutabl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3203640" y="4220640"/>
            <a:ext cx="324000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203640" y="5229360"/>
            <a:ext cx="72072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67280" y="5300640"/>
            <a:ext cx="26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MTAB[</a:t>
            </a:r>
            <a:r>
              <a:rPr b="0" lang="en-US" sz="1400" spc="-1" strike="noStrike">
                <a:solidFill>
                  <a:srgbClr val="d3ce00"/>
                </a:solidFill>
                <a:latin typeface="Arial"/>
              </a:rPr>
              <a:t>ELF_R_SYM(r_info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643280" y="5661000"/>
            <a:ext cx="1441440" cy="631440"/>
          </a:xfrm>
          <a:prstGeom prst="rect">
            <a:avLst/>
          </a:prstGeom>
          <a:noFill/>
          <a:ln w="9360">
            <a:solidFill>
              <a:srgbClr val="1e03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lf32_Sy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ff9900"/>
              </a:buClr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_n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156360" y="616572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229440" y="587700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STRTA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451640" y="6021360"/>
            <a:ext cx="15130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printf\0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0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1258920" cy="6858000"/>
          </a:xfrm>
          <a:prstGeom prst="rect">
            <a:avLst/>
          </a:prstGeom>
          <a:solidFill>
            <a:srgbClr val="4657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58920" cy="73656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971640" y="476280"/>
            <a:ext cx="817236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476360" y="189000"/>
            <a:ext cx="302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ttp://www.</a:t>
            </a:r>
            <a:r>
              <a:rPr b="1" lang="en-US" sz="1400" spc="-1" strike="noStrike">
                <a:solidFill>
                  <a:srgbClr val="333399"/>
                </a:solidFill>
                <a:latin typeface="Verdana"/>
              </a:rPr>
              <a:t>dsnsecurity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547640" y="98100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Link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476360" y="1557360"/>
            <a:ext cx="741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19280" y="1773360"/>
            <a:ext cx="619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9900"/>
              </a:buClr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ouble link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9900"/>
              </a:buClr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ada elf object (ejecutable y shared library) e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ectado por la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ink_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9900"/>
              </a:buClr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tilizada para la resolucion de symbolo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627280" y="3357720"/>
            <a:ext cx="496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uct link_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9900"/>
              </a:buClr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_n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9900"/>
              </a:buClr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_pr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9900"/>
              </a:buClr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_na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9900"/>
              </a:buClr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_add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9900"/>
              </a:buClr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_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0" y="0"/>
            <a:ext cx="1258920" cy="6858000"/>
          </a:xfrm>
          <a:prstGeom prst="rect">
            <a:avLst/>
          </a:prstGeom>
          <a:solidFill>
            <a:srgbClr val="4657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58920" cy="73656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971640" y="476280"/>
            <a:ext cx="817236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476360" y="189000"/>
            <a:ext cx="302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ttp://www.</a:t>
            </a:r>
            <a:r>
              <a:rPr b="1" lang="en-US" sz="1400" spc="-1" strike="noStrike">
                <a:solidFill>
                  <a:srgbClr val="333399"/>
                </a:solidFill>
                <a:latin typeface="Verdana"/>
              </a:rPr>
              <a:t>dsnsecurity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47640" y="98100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Link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476360" y="1557360"/>
            <a:ext cx="741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547640" y="2276640"/>
            <a:ext cx="705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9900"/>
              </a:buClr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r que en runtim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9900"/>
              </a:buClr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elocidad en Loa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9900"/>
              </a:buClr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xt non writab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9900"/>
              </a:buClr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ta tarea la realiza el rt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9900"/>
              </a:buClr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suelve la primera vez que es ejecut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0" y="0"/>
            <a:ext cx="1258920" cy="6858000"/>
          </a:xfrm>
          <a:prstGeom prst="rect">
            <a:avLst/>
          </a:prstGeom>
          <a:solidFill>
            <a:srgbClr val="4657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58920" cy="73656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971640" y="476280"/>
            <a:ext cx="817236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476360" y="189000"/>
            <a:ext cx="302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ttp://www.</a:t>
            </a:r>
            <a:r>
              <a:rPr b="1" lang="en-US" sz="1400" spc="-1" strike="noStrike">
                <a:solidFill>
                  <a:srgbClr val="333399"/>
                </a:solidFill>
                <a:latin typeface="Verdana"/>
              </a:rPr>
              <a:t>dsnsecurity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547640" y="98100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Resolvien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476360" y="1557360"/>
            <a:ext cx="741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547640" y="2565360"/>
            <a:ext cx="7272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9900"/>
              </a:buClr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rer la link_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9900"/>
              </a:buClr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btiene informacion de cada e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9900"/>
              </a:buClr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re la Hash table de cada shared object, y compara los nombres deb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059280" y="1628640"/>
            <a:ext cx="4321080" cy="398880"/>
          </a:xfrm>
          <a:prstGeom prst="rect">
            <a:avLst/>
          </a:prstGeom>
          <a:noFill/>
          <a:ln w="9360">
            <a:solidFill>
              <a:srgbClr val="4657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resolv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rel_offse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cc00"/>
                </a:solidFill>
                <a:latin typeface="Arial"/>
              </a:rPr>
              <a:t>link_ma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332000" y="1916280"/>
            <a:ext cx="6769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dLib BT"/>
              </a:rPr>
              <a:t>Introduccio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10400" y="3429000"/>
            <a:ext cx="323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Conociendo el entor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0" y="0"/>
            <a:ext cx="1258920" cy="6858000"/>
          </a:xfrm>
          <a:prstGeom prst="rect">
            <a:avLst/>
          </a:prstGeom>
          <a:solidFill>
            <a:srgbClr val="4657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58920" cy="73656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971640" y="476280"/>
            <a:ext cx="817236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476360" y="189000"/>
            <a:ext cx="302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ttp://www.</a:t>
            </a:r>
            <a:r>
              <a:rPr b="1" lang="en-US" sz="1400" spc="-1" strike="noStrike">
                <a:solidFill>
                  <a:srgbClr val="333399"/>
                </a:solidFill>
                <a:latin typeface="Verdana"/>
              </a:rPr>
              <a:t>dsnsecurity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547640" y="112536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HASH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476360" y="1557360"/>
            <a:ext cx="741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547640" y="1700280"/>
            <a:ext cx="727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1476360" y="1700280"/>
          <a:ext cx="3527280" cy="4808520"/>
        </p:xfrm>
        <a:graphic>
          <a:graphicData uri="http://schemas.openxmlformats.org/drawingml/2006/table">
            <a:tbl>
              <a:tblPr/>
              <a:tblGrid>
                <a:gridCol w="3527280"/>
              </a:tblGrid>
              <a:tr h="60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bucke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bb0d5"/>
                    </a:solidFill>
                  </a:tcPr>
                </a:tc>
              </a:tr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cha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bb0d5"/>
                    </a:solidFill>
                  </a:tcPr>
                </a:tc>
              </a:tr>
              <a:tr h="60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ucket[0]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6b33"/>
                    </a:solidFill>
                  </a:tcPr>
                </a:tc>
              </a:tr>
              <a:tr h="60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6b33"/>
                    </a:solidFill>
                  </a:tcPr>
                </a:tc>
              </a:tr>
              <a:tr h="599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ucket[nbucket-1]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6b33"/>
                    </a:solidFill>
                  </a:tcPr>
                </a:tc>
              </a:tr>
              <a:tr h="60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hain[0]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5a8bf"/>
                    </a:solidFill>
                  </a:tcPr>
                </a:tc>
              </a:tr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5a8bf"/>
                    </a:solidFill>
                  </a:tcPr>
                </a:tc>
              </a:tr>
              <a:tr h="60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hain[nchain-1]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5a8bf"/>
                    </a:solidFill>
                  </a:tcPr>
                </a:tc>
              </a:tr>
            </a:tbl>
          </a:graphicData>
        </a:graphic>
      </p:graphicFrame>
      <p:sp>
        <p:nvSpPr>
          <p:cNvPr id="239" name=""/>
          <p:cNvSpPr/>
          <p:nvPr/>
        </p:nvSpPr>
        <p:spPr>
          <a:xfrm>
            <a:off x="5219640" y="1700280"/>
            <a:ext cx="3816360" cy="4351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unsigned lo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f_hash(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con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unsigned ch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*name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unsigned lo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=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g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whi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*name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= (h&lt;&lt;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+ *name++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g = h &amp;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0xf00000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 ^= g &gt;&gt; 2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 &amp;= ~g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retur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0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0" y="0"/>
            <a:ext cx="1258920" cy="6858000"/>
          </a:xfrm>
          <a:prstGeom prst="rect">
            <a:avLst/>
          </a:prstGeom>
          <a:solidFill>
            <a:srgbClr val="4657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58920" cy="73656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971640" y="476280"/>
            <a:ext cx="817236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476360" y="189000"/>
            <a:ext cx="302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ttp://www.</a:t>
            </a:r>
            <a:r>
              <a:rPr b="1" lang="en-US" sz="1400" spc="-1" strike="noStrike">
                <a:solidFill>
                  <a:srgbClr val="333399"/>
                </a:solidFill>
                <a:latin typeface="Verdana"/>
              </a:rPr>
              <a:t>dsnsecurity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547640" y="98100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Funcion de Busqueda (pseudo-co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476360" y="1557360"/>
            <a:ext cx="741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547640" y="2565360"/>
            <a:ext cx="727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124000" y="2133720"/>
            <a:ext cx="612000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whi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link_map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sh=elf_hash(funcion_buscada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f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dx=buckets[ hash % nbuckets]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dx !=STN_UNDEF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dx=nchain[ndx]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mbol= symtab + nd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mname=strtab + symbol.st_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 strcmp(symname, funcion_buscada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symbo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k_map=link_map-&gt;nex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1547640" y="836640"/>
            <a:ext cx="6120000" cy="286380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1908000" y="4149720"/>
            <a:ext cx="518508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ded 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an Pablo Martinez Kuh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uc0@mail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icolas Wais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zb0@whatever.org.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871640" cy="100656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1755720" y="593640"/>
            <a:ext cx="738036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422160" y="981000"/>
            <a:ext cx="174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rocsh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11280" y="1844640"/>
            <a:ext cx="8208720" cy="49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rramienta para analizar caracteristicas de el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9900ff"/>
              </a:buClr>
              <a:buFont typeface="Verdana"/>
              <a:buChar char="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rendizaje sobre proce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9900ff"/>
              </a:buClr>
              <a:buFont typeface="Verdana"/>
              <a:buChar char="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alisis de proce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9900ff"/>
              </a:buClr>
              <a:buFont typeface="Verdana"/>
              <a:buChar char="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ccion de Anomalias en elf -&gt; Deteccion de vir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9900ff"/>
              </a:buClr>
              <a:buFont typeface="Verdana"/>
              <a:buChar char="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ccion de Backdo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9900ff"/>
              </a:buClr>
              <a:buFont typeface="Verdana"/>
              <a:buChar char="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ccion de programas siendo explotados?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9900ff"/>
              </a:buClr>
              <a:buFont typeface="Verdana"/>
              <a:buChar char="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&lt; INSERTE SU USO ACA &gt;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ntos del diseñ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9900ff"/>
              </a:buClr>
              <a:buFont typeface="Verdana"/>
              <a:buChar char="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baje en userland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9900ff"/>
              </a:buClr>
              <a:buFont typeface="Verdana"/>
              <a:buChar char="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pendiente de /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9900ff"/>
              </a:buClr>
              <a:buFont typeface="Verdana"/>
              <a:buChar char="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peccionar &amp; Mostr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9900ff"/>
              </a:buClr>
              <a:buFont typeface="Verdana"/>
              <a:buChar char="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ul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9900ff"/>
              </a:buClr>
              <a:buFont typeface="Verdana"/>
              <a:buChar char="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-roo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871640" cy="100656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1755720" y="593640"/>
            <a:ext cx="738036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690720" y="981000"/>
            <a:ext cx="120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tr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95280" y="1628640"/>
            <a:ext cx="8569440" cy="46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“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trace es una llamada al sistema que permite a un proceso observar y controlar el fujo de ejecucion de otro proceso, y examinar y modificar la imagen del proceso y los registros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long i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trace(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enum __ptrace_reque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quest, 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pid_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id, 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void *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ddr, 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void *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at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00ff"/>
              </a:buClr>
              <a:buFont typeface="Verdana"/>
              <a:buChar char="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T_ATTAC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programa se atacha a un proce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00ff"/>
              </a:buClr>
              <a:buFont typeface="Verdana"/>
              <a:buChar char="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T_DETAC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programa libera el proce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00ff"/>
              </a:buClr>
              <a:buFont typeface="Verdana"/>
              <a:buChar char="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T_READ_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e un word en la direccion especificada de la core im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00ff"/>
              </a:buClr>
              <a:buFont typeface="Verdana"/>
              <a:buChar char="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T_WRITE_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cribe un word en la direccion especifica de la core 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871640" cy="100656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1755720" y="593640"/>
            <a:ext cx="738036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2"/>
          <a:stretch/>
        </p:blipFill>
        <p:spPr>
          <a:xfrm>
            <a:off x="826920" y="1125360"/>
            <a:ext cx="7775640" cy="550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871640" cy="100656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1755720" y="593640"/>
            <a:ext cx="738036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340720" y="620640"/>
            <a:ext cx="398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structura Basica de E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68360" y="112536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ff"/>
                </a:solidFill>
                <a:latin typeface="Arial"/>
              </a:rPr>
              <a:t>-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display the ELF H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3640" y="112536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ff"/>
                </a:solidFill>
                <a:latin typeface="Arial"/>
              </a:rPr>
              <a:t>-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display the Program H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692360" y="4365720"/>
            <a:ext cx="36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9900ff"/>
                </a:solidFill>
                <a:latin typeface="Arial"/>
              </a:rPr>
              <a:t>-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display DYNAMI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179280" y="1484280"/>
            <a:ext cx="4464000" cy="264960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3"/>
          <a:stretch/>
        </p:blipFill>
        <p:spPr>
          <a:xfrm>
            <a:off x="5003640" y="1484280"/>
            <a:ext cx="4140360" cy="264816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4"/>
          <a:stretch/>
        </p:blipFill>
        <p:spPr>
          <a:xfrm>
            <a:off x="5003640" y="4292640"/>
            <a:ext cx="3743640" cy="23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0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1000"/>
                            </p:stCondLst>
                            <p:childTnLst>
                              <p:par>
                                <p:cTn id="3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871640" cy="100656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1755720" y="593640"/>
            <a:ext cx="738036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459960" y="620640"/>
            <a:ext cx="174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ymbo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79280" y="170028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ff"/>
                </a:solidFill>
                <a:latin typeface="Arial"/>
              </a:rPr>
              <a:t>-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display Symbol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79280" y="2205000"/>
            <a:ext cx="43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-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display Symbol table through HA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4572000" y="1413000"/>
            <a:ext cx="4392720" cy="2135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6" name=""/>
          <p:cNvGraphicFramePr/>
          <p:nvPr/>
        </p:nvGraphicFramePr>
        <p:xfrm>
          <a:off x="539640" y="4365720"/>
          <a:ext cx="1656000" cy="2249280"/>
        </p:xfrm>
        <a:graphic>
          <a:graphicData uri="http://schemas.openxmlformats.org/drawingml/2006/table">
            <a:tbl>
              <a:tblPr/>
              <a:tblGrid>
                <a:gridCol w="1656000"/>
              </a:tblGrid>
              <a:tr h="45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f32_Sy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5a8bf"/>
                    </a:solidFill>
                  </a:tcPr>
                </a:tc>
              </a:tr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f32_Sy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5a8bf"/>
                    </a:solidFill>
                  </a:tcPr>
                </a:tc>
              </a:tr>
              <a:tr h="45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5a8bf"/>
                    </a:solidFill>
                  </a:tcPr>
                </a:tc>
              </a:tr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5a8bf"/>
                    </a:solidFill>
                  </a:tcPr>
                </a:tc>
              </a:tr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5a8bf"/>
                    </a:solidFill>
                  </a:tcPr>
                </a:tc>
              </a:tr>
            </a:tbl>
          </a:graphicData>
        </a:graphic>
      </p:graphicFrame>
      <p:sp>
        <p:nvSpPr>
          <p:cNvPr id="277" name=""/>
          <p:cNvSpPr/>
          <p:nvPr/>
        </p:nvSpPr>
        <p:spPr>
          <a:xfrm>
            <a:off x="539640" y="400536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MT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24000" y="4365720"/>
            <a:ext cx="0" cy="1800000"/>
          </a:xfrm>
          <a:prstGeom prst="line">
            <a:avLst/>
          </a:prstGeom>
          <a:ln w="9360">
            <a:solidFill>
              <a:srgbClr val="99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6659640" y="4221000"/>
          <a:ext cx="1606320" cy="2232000"/>
        </p:xfrm>
        <a:graphic>
          <a:graphicData uri="http://schemas.openxmlformats.org/drawingml/2006/table">
            <a:tbl>
              <a:tblPr/>
              <a:tblGrid>
                <a:gridCol w="1606320"/>
              </a:tblGrid>
              <a:tr h="37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buck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bb0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cha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bb0d5"/>
                    </a:solidFill>
                  </a:tcPr>
                </a:tc>
              </a:tr>
              <a:tr h="37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cket[x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bb0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bb0d5"/>
                    </a:solidFill>
                  </a:tcPr>
                </a:tc>
              </a:tr>
              <a:tr h="371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chain[x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bb0d5"/>
                    </a:solidFill>
                  </a:tcPr>
                </a:tc>
              </a:tr>
              <a:tr h="37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bb0d5"/>
                    </a:solidFill>
                  </a:tcPr>
                </a:tc>
              </a:tr>
            </a:tbl>
          </a:graphicData>
        </a:graphic>
      </p:graphicFrame>
      <p:sp>
        <p:nvSpPr>
          <p:cNvPr id="280" name=""/>
          <p:cNvSpPr/>
          <p:nvPr/>
        </p:nvSpPr>
        <p:spPr>
          <a:xfrm>
            <a:off x="6659640" y="3789360"/>
            <a:ext cx="158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012000" y="4724280"/>
            <a:ext cx="504720" cy="4334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H="1" flipV="1">
            <a:off x="2411280" y="4652640"/>
            <a:ext cx="4105440" cy="57636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2211480" y="5084640"/>
          <a:ext cx="869760" cy="151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11480" y="5084640"/>
                    <a:ext cx="869760" cy="15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5" name=""/>
          <p:cNvSpPr/>
          <p:nvPr/>
        </p:nvSpPr>
        <p:spPr>
          <a:xfrm>
            <a:off x="2212920" y="4941720"/>
            <a:ext cx="1224000" cy="172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0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500"/>
                            </p:stCondLst>
                            <p:childTnLst>
                              <p:par>
                                <p:cTn id="3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5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1000"/>
                            </p:stCondLst>
                            <p:childTnLst>
                              <p:par>
                                <p:cTn id="39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1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500"/>
                            </p:stCondLst>
                            <p:childTnLst>
                              <p:par>
                                <p:cTn id="41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5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871640" cy="100656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1755720" y="593640"/>
            <a:ext cx="738036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403080" y="620640"/>
            <a:ext cx="186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elo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556000" y="1197000"/>
            <a:ext cx="36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ff"/>
                </a:solidFill>
                <a:latin typeface="Arial"/>
              </a:rPr>
              <a:t>-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display Relocation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2"/>
          <a:stretch/>
        </p:blipFill>
        <p:spPr>
          <a:xfrm>
            <a:off x="1835280" y="2205000"/>
            <a:ext cx="7057800" cy="365436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 flipV="1">
            <a:off x="4859280" y="5013360"/>
            <a:ext cx="432000" cy="12240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995640" y="630864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Symbol ind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2195640" y="5013360"/>
            <a:ext cx="503280" cy="12240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403280" y="623736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Got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flipH="1">
            <a:off x="4500360" y="1989000"/>
            <a:ext cx="502920" cy="180036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H="1">
            <a:off x="4642920" y="1989000"/>
            <a:ext cx="576360" cy="237672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211640" y="162864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Type of r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871640" cy="100656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1755720" y="593640"/>
            <a:ext cx="738036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767680" y="620640"/>
            <a:ext cx="314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tack Argv &amp; Env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116000" y="1197000"/>
            <a:ext cx="70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ff"/>
                </a:solidFill>
                <a:latin typeface="Arial"/>
              </a:rPr>
              <a:t>-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display process stack environment (ARGV[] and ENVP[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2195640" y="1628640"/>
            <a:ext cx="4537080" cy="3608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3" name=""/>
          <p:cNvGraphicFramePr/>
          <p:nvPr/>
        </p:nvGraphicFramePr>
        <p:xfrm>
          <a:off x="179280" y="5805360"/>
          <a:ext cx="8713800" cy="360360"/>
        </p:xfrm>
        <a:graphic>
          <a:graphicData uri="http://schemas.openxmlformats.org/drawingml/2006/table">
            <a:tbl>
              <a:tblPr/>
              <a:tblGrid>
                <a:gridCol w="1089000"/>
                <a:gridCol w="1089000"/>
                <a:gridCol w="1089360"/>
                <a:gridCol w="1090440"/>
                <a:gridCol w="1089000"/>
                <a:gridCol w="1089000"/>
                <a:gridCol w="1089000"/>
                <a:gridCol w="1089000"/>
              </a:tblGrid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5a8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rgv[0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5a8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rgv[n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5a8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nvp[0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5a8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5a8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nvp[n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5a8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mb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5a8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xx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5a8b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1258920" cy="6858000"/>
          </a:xfrm>
          <a:prstGeom prst="rect">
            <a:avLst/>
          </a:prstGeom>
          <a:solidFill>
            <a:srgbClr val="4657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58920" cy="736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971640" y="476280"/>
            <a:ext cx="817236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476360" y="189000"/>
            <a:ext cx="302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ttp://www.</a:t>
            </a:r>
            <a:r>
              <a:rPr b="1" lang="en-US" sz="1400" spc="-1" strike="noStrike">
                <a:solidFill>
                  <a:srgbClr val="333399"/>
                </a:solidFill>
                <a:latin typeface="Verdana"/>
              </a:rPr>
              <a:t>dsnsecurity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835280" y="1125360"/>
            <a:ext cx="68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Verdana"/>
              </a:rPr>
              <a:t>Ejecucion de un Progra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835280" y="24922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ser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547640" y="2492280"/>
            <a:ext cx="1873440" cy="108108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927440" y="3063960"/>
            <a:ext cx="98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9900"/>
              </a:buClr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ec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547640" y="2924280"/>
            <a:ext cx="1873440" cy="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716360" y="2492280"/>
            <a:ext cx="4032360" cy="3241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16360" y="2852640"/>
            <a:ext cx="4032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56360" y="2492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003640" y="3141720"/>
            <a:ext cx="338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9900"/>
              </a:buClr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o_exec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9900"/>
              </a:buClr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usca el rtld en el binari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9900"/>
              </a:buClr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apea el interpr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9900"/>
              </a:buClr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apea el ejecutal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9900"/>
              </a:buClr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tea la AUX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9900"/>
              </a:buClr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trings d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9900"/>
              </a:buClr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 en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9900"/>
              </a:buClr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 arg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92360" y="321300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4000"/>
                            </p:stCondLst>
                            <p:childTnLst>
                              <p:par>
                                <p:cTn id="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871640" cy="100656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1755720" y="593640"/>
            <a:ext cx="738036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19320" y="620640"/>
            <a:ext cx="265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uxiliary Ve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116000" y="1197000"/>
            <a:ext cx="70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ff"/>
                </a:solidFill>
                <a:latin typeface="Arial"/>
              </a:rPr>
              <a:t>-v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display Auxiliary V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900000" y="6021360"/>
          <a:ext cx="7921440" cy="360360"/>
        </p:xfrm>
        <a:graphic>
          <a:graphicData uri="http://schemas.openxmlformats.org/drawingml/2006/table">
            <a:tbl>
              <a:tblPr/>
              <a:tblGrid>
                <a:gridCol w="1296720"/>
                <a:gridCol w="1366920"/>
                <a:gridCol w="1152720"/>
                <a:gridCol w="1008000"/>
                <a:gridCol w="1008000"/>
                <a:gridCol w="1008000"/>
                <a:gridCol w="1081080"/>
              </a:tblGrid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5a8b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uxv[0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5a8b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5a8b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uxv[n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5a8b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5a8b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rgv[0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5a8b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5a8bf"/>
                    </a:solidFill>
                  </a:tcPr>
                </a:tc>
              </a:tr>
            </a:tbl>
          </a:graphicData>
        </a:graphic>
      </p:graphicFrame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395280" y="1628640"/>
            <a:ext cx="4896000" cy="395460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 flipH="1">
            <a:off x="3348000" y="2492280"/>
            <a:ext cx="2519280" cy="93672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3492360" y="3645000"/>
            <a:ext cx="2448000" cy="21564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H="1" flipV="1">
            <a:off x="3419640" y="4149720"/>
            <a:ext cx="2304720" cy="71928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940360" y="227664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PHDR L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156360" y="342900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Rtld Base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796000" y="472428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Executable Entry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971280" y="5805360"/>
            <a:ext cx="7777080" cy="0"/>
          </a:xfrm>
          <a:prstGeom prst="line">
            <a:avLst/>
          </a:prstGeom>
          <a:ln w="9360">
            <a:solidFill>
              <a:srgbClr val="99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5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871640" cy="100656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/>
          <p:nvPr/>
        </p:nvSpPr>
        <p:spPr>
          <a:xfrm>
            <a:off x="1755720" y="593640"/>
            <a:ext cx="738036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017080" y="620640"/>
            <a:ext cx="465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xaminar areas de memo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059280" y="1197000"/>
            <a:ext cx="23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ff"/>
                </a:solidFill>
                <a:latin typeface="Arial"/>
              </a:rPr>
              <a:t>-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Disassem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1835280" y="1628640"/>
            <a:ext cx="5618160" cy="50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871640" cy="100656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/>
          <p:nvPr/>
        </p:nvSpPr>
        <p:spPr>
          <a:xfrm>
            <a:off x="1755720" y="593640"/>
            <a:ext cx="738036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017080" y="620640"/>
            <a:ext cx="465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xaminar areas de memo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900000" y="4869000"/>
            <a:ext cx="23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ff"/>
                </a:solidFill>
                <a:latin typeface="Arial"/>
              </a:rPr>
              <a:t>-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Hexdu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580000" y="1484280"/>
            <a:ext cx="23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ff"/>
                </a:solidFill>
                <a:latin typeface="Arial"/>
              </a:rPr>
              <a:t>-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St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2"/>
          <a:stretch/>
        </p:blipFill>
        <p:spPr>
          <a:xfrm>
            <a:off x="250920" y="1484280"/>
            <a:ext cx="5113080" cy="311616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3"/>
          <a:stretch/>
        </p:blipFill>
        <p:spPr>
          <a:xfrm>
            <a:off x="3419640" y="4797360"/>
            <a:ext cx="5472000" cy="18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871640" cy="100656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1755720" y="593640"/>
            <a:ext cx="738036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923560" y="620640"/>
            <a:ext cx="285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nomalias en E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771640" y="119700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ff"/>
                </a:solidFill>
                <a:latin typeface="Arial"/>
              </a:rPr>
              <a:t>-V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Abnormal Elf Det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75600" y="2060640"/>
            <a:ext cx="20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ff"/>
                </a:solidFill>
                <a:latin typeface="Arial"/>
              </a:rPr>
              <a:t>Padding Det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971640" y="2637000"/>
          <a:ext cx="3240000" cy="3271680"/>
        </p:xfrm>
        <a:graphic>
          <a:graphicData uri="http://schemas.openxmlformats.org/drawingml/2006/table">
            <a:tbl>
              <a:tblPr/>
              <a:tblGrid>
                <a:gridCol w="3240000"/>
              </a:tblGrid>
              <a:tr h="545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TTTTTTTTTTTTTTTTTTTTT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44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TTTTTTTTTTTTTTTTTTTT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46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PPPPPPPPPPPPPPPPPPP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44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PPPPPPPPPPPPPPPPPPP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bb0d5"/>
                    </a:solidFill>
                  </a:tcPr>
                </a:tc>
              </a:tr>
              <a:tr h="544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DDDDDDDDDDDDDDDDDD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bb0d5"/>
                    </a:solidFill>
                  </a:tcPr>
                </a:tc>
              </a:tr>
              <a:tr h="546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DDDDDDDDDDDDDDDDDD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bb0d5"/>
                    </a:solidFill>
                  </a:tcPr>
                </a:tc>
              </a:tr>
            </a:tbl>
          </a:graphicData>
        </a:graphic>
      </p:graphicFrame>
      <p:sp>
        <p:nvSpPr>
          <p:cNvPr id="335" name=""/>
          <p:cNvSpPr/>
          <p:nvPr/>
        </p:nvSpPr>
        <p:spPr>
          <a:xfrm>
            <a:off x="324000" y="285264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50920" y="458136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-2880" y="2637000"/>
            <a:ext cx="93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x8048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-2880" y="4292640"/>
            <a:ext cx="93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x8048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284720" y="2924280"/>
            <a:ext cx="863640" cy="9363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flipH="1">
            <a:off x="4284360" y="3860640"/>
            <a:ext cx="863640" cy="6480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4284720" y="4508280"/>
            <a:ext cx="934920" cy="649080"/>
          </a:xfrm>
          <a:prstGeom prst="line">
            <a:avLst/>
          </a:prstGeom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flipH="1" flipV="1">
            <a:off x="4284360" y="3933360"/>
            <a:ext cx="934920" cy="574920"/>
          </a:xfrm>
          <a:prstGeom prst="line">
            <a:avLst/>
          </a:prstGeom>
          <a:ln w="93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6443640" y="4292640"/>
            <a:ext cx="2521080" cy="9558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f_Phd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333399"/>
              </a:buClr>
              <a:buFont typeface="Verdana"/>
              <a:buChar char="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_vaddr = 0x804924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333399"/>
              </a:buClr>
              <a:buFont typeface="Verdana"/>
              <a:buChar char="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_memsz=0x12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443640" y="2637000"/>
            <a:ext cx="2521080" cy="9558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f_Phd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333399"/>
              </a:buClr>
              <a:buFont typeface="Verdana"/>
              <a:buChar char="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_vaddr = 0x8048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333399"/>
              </a:buClr>
              <a:buFont typeface="Verdana"/>
              <a:buChar char="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_memsz=0x0x45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 flipH="1" flipV="1">
            <a:off x="4284360" y="2708280"/>
            <a:ext cx="2158920" cy="43344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4284360" y="3429000"/>
            <a:ext cx="2158920" cy="28728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4284360" y="4797360"/>
            <a:ext cx="2158920" cy="7164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4284360" y="5084640"/>
            <a:ext cx="2158920" cy="72072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500"/>
                            </p:stCondLst>
                            <p:childTnLst>
                              <p:par>
                                <p:cTn id="4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871640" cy="100656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>
            <a:off x="1755720" y="593640"/>
            <a:ext cx="738036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206160" y="620640"/>
            <a:ext cx="285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nomalias en E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711600" y="119700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ff"/>
                </a:solidFill>
                <a:latin typeface="Arial"/>
              </a:rPr>
              <a:t>Phdr Anoma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24000" y="1844640"/>
            <a:ext cx="2520720" cy="160452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f_Phdr (PT_PHD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333399"/>
              </a:buClr>
              <a:buFont typeface="Verdana"/>
              <a:buChar char="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_vaddr =   0x804803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333399"/>
              </a:buClr>
              <a:buFont typeface="Verdana"/>
              <a:buChar char="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_memsz= 0xc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333399"/>
              </a:buClr>
              <a:buFont typeface="Verdana"/>
              <a:buChar char="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_flags=      r-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333399"/>
              </a:buClr>
              <a:buFont typeface="Verdana"/>
              <a:buChar char="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_align=      0x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24000" y="3429000"/>
            <a:ext cx="2520720" cy="160452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f_Phdr (PT_INTER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333399"/>
              </a:buClr>
              <a:buFont typeface="Verdana"/>
              <a:buChar char="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_vaddr =  0x80480f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333399"/>
              </a:buClr>
              <a:buFont typeface="Verdana"/>
              <a:buChar char="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_memsz= 0x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333399"/>
              </a:buClr>
              <a:buFont typeface="Verdana"/>
              <a:buChar char="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_flags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333399"/>
              </a:buClr>
              <a:buFont typeface="Verdana"/>
              <a:buChar char="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_align=     0x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24000" y="5013360"/>
            <a:ext cx="2520720" cy="160452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f_Phdr (PT_DYNAMI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333399"/>
              </a:buClr>
              <a:buFont typeface="Verdana"/>
              <a:buChar char="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_vaddr =   0x80494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333399"/>
              </a:buClr>
              <a:buFont typeface="Verdana"/>
              <a:buChar char="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_memsz= 0xc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333399"/>
              </a:buClr>
              <a:buFont typeface="Verdana"/>
              <a:buChar char="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_flags=      rw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333399"/>
              </a:buClr>
              <a:buFont typeface="Verdana"/>
              <a:buChar char="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_align=      0x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372360" y="1844640"/>
            <a:ext cx="2520720" cy="160452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f_Phdr (PT_LOA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333399"/>
              </a:buClr>
              <a:buFont typeface="Verdana"/>
              <a:buChar char="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_vaddr =  0x8048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333399"/>
              </a:buClr>
              <a:buFont typeface="Verdana"/>
              <a:buChar char="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_memsz= 0x48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333399"/>
              </a:buClr>
              <a:buFont typeface="Verdana"/>
              <a:buChar char="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_flags=      r-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333399"/>
              </a:buClr>
              <a:buFont typeface="Verdana"/>
              <a:buChar char="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_align=      0x1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372360" y="3429000"/>
            <a:ext cx="2520720" cy="160452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f_Phdr (PT_LOA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333399"/>
              </a:buClr>
              <a:buFont typeface="Verdana"/>
              <a:buChar char="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_vaddr =  0x804948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333399"/>
              </a:buClr>
              <a:buFont typeface="Verdana"/>
              <a:buChar char="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_memsz= 0x1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333399"/>
              </a:buClr>
              <a:buFont typeface="Verdana"/>
              <a:buChar char="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_flags=      rw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333399"/>
              </a:buClr>
              <a:buFont typeface="Verdana"/>
              <a:buChar char="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_align=      0x1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372360" y="5013360"/>
            <a:ext cx="2520720" cy="160452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f_Phdr (PT_NOT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333399"/>
              </a:buClr>
              <a:buFont typeface="Verdana"/>
              <a:buChar char="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_vaddr =   0x80481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333399"/>
              </a:buClr>
              <a:buFont typeface="Verdana"/>
              <a:buChar char="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_memsz= 0x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333399"/>
              </a:buClr>
              <a:buFont typeface="Verdana"/>
              <a:buChar char="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_fla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333399"/>
              </a:buClr>
              <a:buFont typeface="Verdana"/>
              <a:buChar char="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_align=      0x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851280" y="1989000"/>
            <a:ext cx="151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Verdana"/>
              </a:rPr>
              <a:t>cantidad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851280" y="2637000"/>
            <a:ext cx="151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Verdana"/>
              </a:rPr>
              <a:t>alineacio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851280" y="3429000"/>
            <a:ext cx="151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Verdana"/>
              </a:rPr>
              <a:t>permiso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219640" y="2852640"/>
            <a:ext cx="1008000" cy="432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5219640" y="2852640"/>
            <a:ext cx="1081080" cy="1871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148360" y="3645000"/>
            <a:ext cx="1152360" cy="79200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flipV="1">
            <a:off x="5148360" y="2924280"/>
            <a:ext cx="1152360" cy="72072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500"/>
                            </p:stCondLst>
                            <p:childTnLst>
                              <p:par>
                                <p:cTn id="5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500"/>
                            </p:stCondLst>
                            <p:childTnLst>
                              <p:par>
                                <p:cTn id="5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1000"/>
                            </p:stCondLst>
                            <p:childTnLst>
                              <p:par>
                                <p:cTn id="5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871640" cy="100656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1755720" y="593640"/>
            <a:ext cx="738036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206160" y="620640"/>
            <a:ext cx="285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nomalias en E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711600" y="119700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ff"/>
                </a:solidFill>
                <a:latin typeface="Arial"/>
              </a:rPr>
              <a:t>Ehdr Anoma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24000" y="2421000"/>
            <a:ext cx="2520720" cy="128016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f_Ehdr (PT_PHD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333399"/>
              </a:buClr>
              <a:buFont typeface="Verdana"/>
              <a:buChar char="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_phoff =       0x3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333399"/>
              </a:buClr>
              <a:buFont typeface="Verdana"/>
              <a:buChar char="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_phentsize= 0x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333399"/>
              </a:buClr>
              <a:buFont typeface="Verdana"/>
              <a:buChar char="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_entry=        0x80483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5651640" y="2852640"/>
          <a:ext cx="3240000" cy="3271680"/>
        </p:xfrm>
        <a:graphic>
          <a:graphicData uri="http://schemas.openxmlformats.org/drawingml/2006/table">
            <a:tbl>
              <a:tblPr/>
              <a:tblGrid>
                <a:gridCol w="3240000"/>
              </a:tblGrid>
              <a:tr h="546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TTTTTTTTTTTTTTTTTTTTT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44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TTTTTTTTTTTTTTTTTTTT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46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PPPPPPPPPPPPPPPPPPP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44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PPPPPPPPPPPPPPPPPPP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bb0d5"/>
                    </a:solidFill>
                  </a:tcPr>
                </a:tc>
              </a:tr>
              <a:tr h="544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DDDDDDDDDDDDDDDDDD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bb0d5"/>
                    </a:solidFill>
                  </a:tcPr>
                </a:tc>
              </a:tr>
              <a:tr h="546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DDDDDDDDDDDDDDDDDD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bb0d5"/>
                    </a:solidFill>
                  </a:tcPr>
                </a:tc>
              </a:tr>
            </a:tbl>
          </a:graphicData>
        </a:graphic>
      </p:graphicFrame>
      <p:sp>
        <p:nvSpPr>
          <p:cNvPr id="372" name=""/>
          <p:cNvSpPr/>
          <p:nvPr/>
        </p:nvSpPr>
        <p:spPr>
          <a:xfrm>
            <a:off x="5508720" y="242100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808200" y="4024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68360" y="4076640"/>
            <a:ext cx="244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Verdana"/>
              </a:rPr>
              <a:t>Offset del phdr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95280" y="4653000"/>
            <a:ext cx="216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Verdana"/>
              </a:rPr>
              <a:t>Tamano del phdr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68360" y="5157720"/>
            <a:ext cx="295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Verdana"/>
              </a:rPr>
              <a:t>Donde apunta el entry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843280" y="2565360"/>
            <a:ext cx="2665440" cy="50328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843280" y="2565360"/>
            <a:ext cx="2665440" cy="201600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843280" y="2565360"/>
            <a:ext cx="2736720" cy="395928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5219640" y="6092640"/>
            <a:ext cx="287280" cy="2854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219640" y="6093000"/>
            <a:ext cx="287280" cy="2854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 flipV="1">
            <a:off x="5076720" y="4221000"/>
            <a:ext cx="287280" cy="2858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076720" y="4221000"/>
            <a:ext cx="287280" cy="2858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2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500"/>
                            </p:stCondLst>
                            <p:childTnLst>
                              <p:par>
                                <p:cTn id="5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1000"/>
                            </p:stCondLst>
                            <p:childTnLst>
                              <p:par>
                                <p:cTn id="5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1500"/>
                            </p:stCondLst>
                            <p:childTnLst>
                              <p:par>
                                <p:cTn id="5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2000"/>
                            </p:stCondLst>
                            <p:childTnLst>
                              <p:par>
                                <p:cTn id="5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871640" cy="1006560"/>
          </a:xfrm>
          <a:prstGeom prst="rect">
            <a:avLst/>
          </a:prstGeom>
          <a:ln w="0">
            <a:noFill/>
          </a:ln>
        </p:spPr>
      </p:pic>
      <p:sp>
        <p:nvSpPr>
          <p:cNvPr id="385" name=""/>
          <p:cNvSpPr/>
          <p:nvPr/>
        </p:nvSpPr>
        <p:spPr>
          <a:xfrm>
            <a:off x="1755720" y="593640"/>
            <a:ext cx="738036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50920" y="2637000"/>
            <a:ext cx="1152360" cy="955800"/>
          </a:xfrm>
          <a:prstGeom prst="rect">
            <a:avLst/>
          </a:prstGeom>
          <a:solidFill>
            <a:srgbClr val="bbe0e3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f_R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333399"/>
              </a:buClr>
              <a:buFont typeface="Verdana"/>
              <a:buChar char="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_off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333399"/>
              </a:buClr>
              <a:buFont typeface="Verdana"/>
              <a:buChar char="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_inf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250920" y="3571920"/>
            <a:ext cx="1152360" cy="955800"/>
          </a:xfrm>
          <a:prstGeom prst="rect">
            <a:avLst/>
          </a:prstGeom>
          <a:solidFill>
            <a:srgbClr val="bbe0e3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f_R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333399"/>
              </a:buClr>
              <a:buFont typeface="Verdana"/>
              <a:buChar char="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_off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333399"/>
              </a:buClr>
              <a:buFont typeface="Verdana"/>
              <a:buChar char="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_inf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50920" y="4508640"/>
            <a:ext cx="1152360" cy="955800"/>
          </a:xfrm>
          <a:prstGeom prst="rect">
            <a:avLst/>
          </a:prstGeom>
          <a:solidFill>
            <a:srgbClr val="bbe0e3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f_R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333399"/>
              </a:buClr>
              <a:buFont typeface="Verdana"/>
              <a:buChar char="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_off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333399"/>
              </a:buClr>
              <a:buFont typeface="Verdana"/>
              <a:buChar char="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_inf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79280" y="2276640"/>
            <a:ext cx="115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MPR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0" name=""/>
          <p:cNvGraphicFramePr/>
          <p:nvPr/>
        </p:nvGraphicFramePr>
        <p:xfrm>
          <a:off x="3635280" y="2637000"/>
          <a:ext cx="1176480" cy="1269720"/>
        </p:xfrm>
        <a:graphic>
          <a:graphicData uri="http://schemas.openxmlformats.org/drawingml/2006/table">
            <a:tbl>
              <a:tblPr/>
              <a:tblGrid>
                <a:gridCol w="1176480"/>
              </a:tblGrid>
              <a:tr h="348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x0804897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x400853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91" name=""/>
          <p:cNvGraphicFramePr/>
          <p:nvPr/>
        </p:nvGraphicFramePr>
        <p:xfrm>
          <a:off x="2411280" y="2637000"/>
          <a:ext cx="1175040" cy="1368360"/>
        </p:xfrm>
        <a:graphic>
          <a:graphicData uri="http://schemas.openxmlformats.org/drawingml/2006/table">
            <a:tbl>
              <a:tblPr/>
              <a:tblGrid>
                <a:gridCol w="1175040"/>
              </a:tblGrid>
              <a:tr h="35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x8052d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9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99cc00"/>
                          </a:solidFill>
                          <a:latin typeface="Verdana"/>
                        </a:rPr>
                        <a:t>0x8052d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0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x8052d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x8052e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2" name=""/>
          <p:cNvSpPr/>
          <p:nvPr/>
        </p:nvSpPr>
        <p:spPr>
          <a:xfrm>
            <a:off x="1403280" y="314172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132000" y="2205000"/>
            <a:ext cx="115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flipV="1">
            <a:off x="4788000" y="1916280"/>
            <a:ext cx="288720" cy="12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572000" y="227664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5076720" y="1773360"/>
            <a:ext cx="3888000" cy="641520"/>
          </a:xfrm>
          <a:prstGeom prst="rect">
            <a:avLst/>
          </a:prstGeom>
          <a:noFill/>
          <a:ln w="19080">
            <a:solidFill>
              <a:srgbClr val="4657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x8048978 &lt;fprintf&gt;:      </a:t>
            </a:r>
            <a:r>
              <a:rPr b="0" lang="en-US" sz="1200" spc="-1" strike="noStrike">
                <a:solidFill>
                  <a:srgbClr val="33cc33"/>
                </a:solidFill>
                <a:latin typeface="Arial"/>
              </a:rPr>
              <a:t> jmp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99cc00"/>
                </a:solidFill>
                <a:latin typeface="Arial"/>
              </a:rPr>
              <a:t>*0x80502d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x804897e &lt;fprintf+6&gt;:   </a:t>
            </a:r>
            <a:r>
              <a:rPr b="0" lang="en-US" sz="1200" spc="-1" strike="noStrike">
                <a:solidFill>
                  <a:srgbClr val="33cc33"/>
                </a:solidFill>
                <a:latin typeface="Arial"/>
              </a:rPr>
              <a:t>pus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9900"/>
                </a:solidFill>
                <a:latin typeface="Arial"/>
              </a:rPr>
              <a:t>$0x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x8048983 &lt;fprintf+11&gt;: </a:t>
            </a:r>
            <a:r>
              <a:rPr b="0" lang="en-US" sz="1200" spc="-1" strike="noStrike">
                <a:solidFill>
                  <a:srgbClr val="33cc33"/>
                </a:solidFill>
                <a:latin typeface="Arial"/>
              </a:rPr>
              <a:t>jmp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c56b33"/>
                </a:solidFill>
                <a:latin typeface="Arial"/>
              </a:rPr>
              <a:t>0x80489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flipH="1">
            <a:off x="8317080" y="1916280"/>
            <a:ext cx="28728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8332920" y="2101680"/>
            <a:ext cx="28728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5076720" y="1125360"/>
            <a:ext cx="3888000" cy="641520"/>
          </a:xfrm>
          <a:prstGeom prst="rect">
            <a:avLst/>
          </a:prstGeom>
          <a:noFill/>
          <a:ln w="19080">
            <a:solidFill>
              <a:srgbClr val="4657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x8048968 :   push got[1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x804896e :   </a:t>
            </a:r>
            <a:r>
              <a:rPr b="0" lang="en-US" sz="1200" spc="-1" strike="noStrike">
                <a:solidFill>
                  <a:srgbClr val="33cc33"/>
                </a:solidFill>
                <a:latin typeface="Arial"/>
              </a:rPr>
              <a:t>jmp   got[2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x8048973 :   nop; nop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8339040" y="2284560"/>
            <a:ext cx="28728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4716360" y="765000"/>
            <a:ext cx="115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L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 flipV="1">
            <a:off x="1403280" y="3499920"/>
            <a:ext cx="10810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859280" y="3500280"/>
            <a:ext cx="93672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580000" y="4797360"/>
            <a:ext cx="2521080" cy="33732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solver y Compar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78680" y="907920"/>
            <a:ext cx="33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nomalias en la G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971640" y="1484280"/>
            <a:ext cx="30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ff"/>
                </a:solidFill>
                <a:latin typeface="Arial"/>
              </a:rPr>
              <a:t>-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Got/Plt integirty che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500"/>
                            </p:stCondLst>
                            <p:childTnLst>
                              <p:par>
                                <p:cTn id="5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3.33333E-006 C -0.00277 -0.00371 -0.00399 -0.00973 -0.00625 -0.01436 C -0.01024 -0.02246 -0.01788 -0.02848 -0.02326 -0.03473 C -0.03072 -0.04329 -0.03888 -0.05 -0.04739 -0.05718 C -0.0519 -0.06088 -0.05503 -0.06528 -0.05989 -0.06806 C -0.06406 -0.07361 -0.07222 -0.07871 -0.07777 -0.08218 C -0.08281 -0.08936 -0.09097 -0.0919 -0.09826 -0.09422 C -0.10069 -0.0963 -0.10625 -0.09885 -0.10625 -0.09861 C -0.11579 -0.10764 -0.13732 -0.11273 -0.14913 -0.11667 C -0.1592 -0.12014 -0.16927 -0.12477 -0.17951 -0.12755 C -0.18593 -0.12917 -0.18437 -0.12778 -0.1894 -0.12986 C -0.19461 -0.13195 -0.2 -0.13542 -0.20538 -0.13704 C -0.21875 -0.14098 -0.23368 -0.1419 -0.24739 -0.14306 C -0.26319 -0.14723 -0.27951 -0.14699 -0.29565 -0.14769 C -0.33211 -0.15301 -0.30625 -0.15 -0.37326 -0.14885 C -0.38229 -0.14746 -0.39097 -0.14491 -0.4 -0.14306 C -0.40972 -0.1382 -0.42326 -0.1301 -0.43125 -0.12037 C -0.43437 -0.11667 -0.43732 -0.11135 -0.44114 -0.10973 C -0.44461 -0.10463 -0.45399 -0.09236 -0.45815 -0.09051 C -0.46111 -0.08496 -0.46423 -0.07871 -0.46788 -0.07385 C -0.46961 -0.07153 -0.47222 -0.07037 -0.47413 -0.06806 C -0.47986 -0.06111 -0.48472 -0.05278 -0.49027 -0.04537 C -0.49322 -0.04144 -0.49097 -0.04236 -0.49288 -0.0382 C -0.50208 -0.01713 -0.50399 0.00602 -0.50815 0.02963 C -0.51059 0.06041 -0.50694 0.10185 -0.51788 0.13078 C -0.51909 0.14143 -0.51579 0.16458 -0.52413 0.17129 C -0.5269 0.17361 -0.53159 0.17291 -0.53402 0.17615 E">
                                      <p:cBhvr>
                                        <p:cTn id="599" dur="1000" fill="hold"/>
                                        <p:tgtEl>
                                          <p:spTgt spid="3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74 -0.00046 C -0.00139 -0.0118 -0.00122 -0.02477 -0.00451 -0.03634 C -0.00625 -0.04213 -0.00642 -0.04004 -0.00903 -0.04467 C -0.0184 -0.06042 -0.02917 -0.07546 -0.04201 -0.08634 C -0.04792 -0.09745 -0.05556 -0.10648 -0.06267 -0.11597 C -0.06424 -0.11805 -0.06823 -0.12176 -0.06979 -0.1243 C -0.07483 -0.13217 -0.07986 -0.14375 -0.08767 -0.14583 C -0.09045 -0.14954 -0.09271 -0.15254 -0.09653 -0.15417 C -0.10938 -0.16643 -0.09219 -0.15092 -0.10365 -0.15879 C -0.10451 -0.15926 -0.10486 -0.16065 -0.10556 -0.16134 C -0.11024 -0.16504 -0.11389 -0.16667 -0.11892 -0.16829 C -0.12188 -0.17106 -0.12448 -0.17176 -0.12778 -0.17315 C -0.13299 -0.17963 -0.13941 -0.18217 -0.14566 -0.18634 C -0.14722 -0.1875 -0.14861 -0.18889 -0.15017 -0.18981 C -0.15191 -0.19074 -0.15556 -0.19213 -0.15556 -0.19213 C -0.1592 -0.19745 -0.16476 -0.19514 -0.16979 -0.19699 C -0.17309 -0.19815 -0.17951 -0.20046 -0.17951 -0.20046 C -0.1849 -0.20417 -0.19063 -0.20486 -0.19653 -0.20648 C -0.20295 -0.21065 -0.20903 -0.2125 -0.21615 -0.21366 C -0.22153 -0.21458 -0.23229 -0.21597 -0.23229 -0.21597 C -0.24149 -0.21898 -0.25069 -0.22083 -0.2599 -0.2243 C -0.27517 -0.23704 -0.32396 -0.23356 -0.33403 -0.23379 C -0.3467 -0.24097 -0.36267 -0.24004 -0.37604 -0.24097 C -0.39132 -0.24745 -0.41042 -0.2456 -0.42691 -0.24699 C -0.44201 -0.24606 -0.45365 -0.24329 -0.46806 -0.23866 C -0.47622 -0.23611 -0.48368 -0.23032 -0.49201 -0.22801 C -0.5 -0.2206 -0.5099 -0.21852 -0.51806 -0.2125 C -0.52413 -0.2081 -0.52951 -0.19861 -0.53576 -0.19583 C -0.5401 -0.19004 -0.54427 -0.18403 -0.54931 -0.17917 C -0.55278 -0.17199 -0.55955 -0.16157 -0.56528 -0.15648 C -0.57031 -0.14583 -0.56753 -0.14907 -0.5724 -0.14467 C -0.57448 -0.13565 -0.57986 -0.1287 -0.58403 -0.12083 C -0.58802 -0.11319 -0.5908 -0.10463 -0.59566 -0.09815 C -0.5974 -0.0919 -0.59792 -0.09097 -0.60191 -0.0875 C -0.60729 -0.07616 -0.61615 -0.06829 -0.62326 -0.05879 C -0.62899 -0.05116 -0.63646 -0.03819 -0.64306 -0.03264 C -0.64601 -0.02708 -0.64844 -0.02199 -0.65191 -0.01713 C -0.65365 -0.01042 -0.65712 -0.00625 -0.6599 -0.00046 C -0.66094 0.00486 -0.66285 0.00556 -0.66441 0.01019 C -0.66545 0.01366 -0.66545 0.01759 -0.66701 0.02083 C -0.66979 0.02639 -0.67378 0.03588 -0.67691 0.04121 C -0.67917 0.04491 -0.68542 0.05162 -0.68854 0.05301 C -0.69028 0.05371 -0.69392 0.05533 -0.69392 0.05533 C -0.69757 0.0588 -0.70104 0.0625 -0.70451 0.06621 C -0.70712 0.06898 -0.70747 0.07176 -0.71076 0.07338 C -0.71528 0.07871 -0.71076 0.07431 -0.72153 0.07685 C -0.72344 0.07732 -0.725 0.07871 -0.72691 0.07917 C -0.72865 0.07963 -0.73056 0.07986 -0.73229 0.08033 C -0.74045 0.08472 -0.73403 0.08171 -0.75278 0.08171 E">
                                      <p:cBhvr>
                                        <p:cTn id="603" dur="1000" fill="hold"/>
                                        <p:tgtEl>
                                          <p:spTgt spid="3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65 -0.00092 C 0.00591 -0.01041 0.00608 -0.02106 0.0073 -0.03079 C 0.00678 -0.05069 0.01007 -0.10092 -0.00885 -0.11412 C -0.01128 -0.11852 -0.01284 -0.12176 -0.01684 -0.12361 C -0.02187 -0.12986 -0.02569 -0.13055 -0.03211 -0.1331 C -0.03906 -0.13935 -0.04982 -0.1419 -0.05798 -0.14375 C -0.06128 -0.14514 -0.06423 -0.14676 -0.0677 -0.14745 C -0.07309 -0.14838 -0.08385 -0.14977 -0.08385 -0.14977 C -0.09218 -0.15231 -0.10052 -0.15278 -0.10885 -0.15463 C -0.11197 -0.15532 -0.11458 -0.15671 -0.1177 -0.1581 C -0.11857 -0.15856 -0.12048 -0.15926 -0.12048 -0.15926 C -0.13125 -0.15833 -0.13906 -0.15648 -0.14895 -0.15208 C -0.15017 -0.14815 -0.1493 -0.14954 -0.15086 -0.14745 E">
                                      <p:cBhvr>
                                        <p:cTn id="607" dur="1000" fill="hold"/>
                                        <p:tgtEl>
                                          <p:spTgt spid="4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7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1000"/>
                            </p:stCondLst>
                            <p:childTnLst>
                              <p:par>
                                <p:cTn id="6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1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1332000" y="1916280"/>
            <a:ext cx="6769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dLib BT"/>
              </a:rPr>
              <a:t>Preguntas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488840" y="3429000"/>
            <a:ext cx="48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(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/>
          <p:nvPr/>
        </p:nvSpPr>
        <p:spPr>
          <a:xfrm>
            <a:off x="1332000" y="1916280"/>
            <a:ext cx="6769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dLib BT"/>
              </a:rPr>
              <a:t>Gracia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0"/>
            <a:ext cx="1258920" cy="6858000"/>
          </a:xfrm>
          <a:prstGeom prst="rect">
            <a:avLst/>
          </a:prstGeom>
          <a:solidFill>
            <a:srgbClr val="4657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58920" cy="7365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971640" y="476280"/>
            <a:ext cx="817236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476360" y="189000"/>
            <a:ext cx="302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ttp://www.</a:t>
            </a:r>
            <a:r>
              <a:rPr b="1" lang="en-US" sz="1400" spc="-1" strike="noStrike">
                <a:solidFill>
                  <a:srgbClr val="333399"/>
                </a:solidFill>
                <a:latin typeface="Verdana"/>
              </a:rPr>
              <a:t>dsnsecurity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835280" y="1125360"/>
            <a:ext cx="68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Verdana"/>
              </a:rPr>
              <a:t>Ejecucion de un Progra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59640" y="230976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ser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292720" y="2276640"/>
            <a:ext cx="3602160" cy="396072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437080" y="2924280"/>
            <a:ext cx="3456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inamic link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9900"/>
              </a:buClr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locate itsel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9900"/>
              </a:buClr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oma la informacion de aux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9900"/>
              </a:buClr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loquea el bina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9900"/>
              </a:buClr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rea la link_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9900"/>
              </a:buClr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icializa la g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9900"/>
              </a:buClr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apea y reloquea las librerias   que necesita el bina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9900"/>
              </a:buClr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jecuta el entry point del programa orig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292720" y="2708280"/>
            <a:ext cx="3600360" cy="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403280" y="2276640"/>
            <a:ext cx="3456000" cy="936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403280" y="2637000"/>
            <a:ext cx="34560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556000" y="227664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476360" y="2708280"/>
            <a:ext cx="338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9900"/>
              </a:buClr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jecuta el dynamic lin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780000" y="3500280"/>
            <a:ext cx="107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4000"/>
                            </p:stCondLst>
                            <p:childTnLst>
                              <p:par>
                                <p:cTn id="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0"/>
            <a:ext cx="1258920" cy="6858000"/>
          </a:xfrm>
          <a:prstGeom prst="rect">
            <a:avLst/>
          </a:prstGeom>
          <a:solidFill>
            <a:srgbClr val="4657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58920" cy="7365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971640" y="476280"/>
            <a:ext cx="817236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476360" y="189000"/>
            <a:ext cx="302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ttp://www.</a:t>
            </a:r>
            <a:r>
              <a:rPr b="1" lang="en-US" sz="1400" spc="-1" strike="noStrike">
                <a:solidFill>
                  <a:srgbClr val="333399"/>
                </a:solidFill>
                <a:latin typeface="Verdana"/>
              </a:rPr>
              <a:t>dsnsecurity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059280" y="981000"/>
            <a:ext cx="42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Verdana"/>
              </a:rPr>
              <a:t>What is ELF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547640" y="2276640"/>
            <a:ext cx="6696360" cy="34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9900"/>
              </a:buClr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mato de bin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9900"/>
              </a:buClr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ponible en mas de 30 platafor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9900"/>
              </a:buClr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9900"/>
              </a:buClr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tilizado para 4 tipo de archiv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 Relocate Object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 Execu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 Dynamic Execu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 Core dump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1258920" cy="6858000"/>
          </a:xfrm>
          <a:prstGeom prst="rect">
            <a:avLst/>
          </a:prstGeom>
          <a:solidFill>
            <a:srgbClr val="4657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58920" cy="7365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971640" y="476280"/>
            <a:ext cx="817236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476360" y="189000"/>
            <a:ext cx="302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ttp://www.</a:t>
            </a:r>
            <a:r>
              <a:rPr b="1" lang="en-US" sz="1400" spc="-1" strike="noStrike">
                <a:solidFill>
                  <a:srgbClr val="333399"/>
                </a:solidFill>
                <a:latin typeface="Verdana"/>
              </a:rPr>
              <a:t>dsnsecurity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411280" y="981000"/>
            <a:ext cx="511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Verdana"/>
              </a:rPr>
              <a:t>ELF Basic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411280" y="2276640"/>
            <a:ext cx="4824720" cy="30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lf32_Ehd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9900"/>
              </a:buClr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_ident[EI_NIDENT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9900"/>
              </a:buClr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_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9900"/>
              </a:buClr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_mach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9900"/>
              </a:buClr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_entr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9900"/>
              </a:buClr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_phoff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9900"/>
              </a:buClr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_phn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9900"/>
              </a:buClr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500"/>
                            </p:stCondLst>
                            <p:childTnLst>
                              <p:par>
                                <p:cTn id="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500"/>
                            </p:stCondLst>
                            <p:childTnLst>
                              <p:par>
                                <p:cTn id="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1258920" cy="6858000"/>
          </a:xfrm>
          <a:prstGeom prst="rect">
            <a:avLst/>
          </a:prstGeom>
          <a:solidFill>
            <a:srgbClr val="4657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58920" cy="7365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971640" y="476280"/>
            <a:ext cx="817236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476360" y="189000"/>
            <a:ext cx="302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ttp://www.</a:t>
            </a:r>
            <a:r>
              <a:rPr b="1" lang="en-US" sz="1400" spc="-1" strike="noStrike">
                <a:solidFill>
                  <a:srgbClr val="333399"/>
                </a:solidFill>
                <a:latin typeface="Verdana"/>
              </a:rPr>
              <a:t>dsnsecurity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411280" y="981000"/>
            <a:ext cx="511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Verdana"/>
              </a:rPr>
              <a:t>ELF Basic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124000" y="1916280"/>
            <a:ext cx="6193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lf32_Phd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9900"/>
              </a:buClr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_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PT_LOAD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PT_DYNAM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PT_PHDR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PT_INTER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9900"/>
              </a:buClr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_flags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9900"/>
              </a:buClr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_offset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9900"/>
              </a:buClr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_vadd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9900"/>
              </a:buClr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_filesz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9900"/>
              </a:buClr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_memsz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9900"/>
              </a:buClr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_alig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5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3000"/>
                            </p:stCondLst>
                            <p:childTnLst>
                              <p:par>
                                <p:cTn id="1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3500"/>
                            </p:stCondLst>
                            <p:childTnLst>
                              <p:par>
                                <p:cTn id="1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4000"/>
                            </p:stCondLst>
                            <p:childTnLst>
                              <p:par>
                                <p:cTn id="1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4500"/>
                            </p:stCondLst>
                            <p:childTnLst>
                              <p:par>
                                <p:cTn id="1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0"/>
                            </p:stCondLst>
                            <p:childTnLst>
                              <p:par>
                                <p:cTn id="1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1258920" cy="6858000"/>
          </a:xfrm>
          <a:prstGeom prst="rect">
            <a:avLst/>
          </a:prstGeom>
          <a:solidFill>
            <a:srgbClr val="4657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58920" cy="7365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971640" y="476280"/>
            <a:ext cx="817236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476360" y="189000"/>
            <a:ext cx="302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ttp://www.</a:t>
            </a:r>
            <a:r>
              <a:rPr b="1" lang="en-US" sz="1400" spc="-1" strike="noStrike">
                <a:solidFill>
                  <a:srgbClr val="333399"/>
                </a:solidFill>
                <a:latin typeface="Verdana"/>
              </a:rPr>
              <a:t>dsnsecurity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547640" y="98100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Obteniendo informacion de un proce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403280" y="1773360"/>
            <a:ext cx="7667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YNAMIC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9900"/>
              </a:buClr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 encuentra en Phdr como PT_DYNAM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9900"/>
              </a:buClr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rray de Elf32_Dy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9900"/>
              </a:buClr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o utiliza el rtld para obtener informacion para la resolucion de symb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332000" y="3357720"/>
            <a:ext cx="756108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cion Interesan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9900"/>
              </a:buClr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T_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9900"/>
              </a:buClr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T_PLTGO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9900"/>
              </a:buClr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T_HAS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9900"/>
              </a:buClr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T_STRTA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9900"/>
              </a:buClr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T_SYMT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9900"/>
              </a:buClr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T_JMPR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r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9900"/>
              </a:buClr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T_INIT, DT_FINI, DT_STRSZ, DT_SI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1258920" cy="6858000"/>
          </a:xfrm>
          <a:prstGeom prst="rect">
            <a:avLst/>
          </a:prstGeom>
          <a:solidFill>
            <a:srgbClr val="4657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58920" cy="7365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971640" y="476280"/>
            <a:ext cx="817236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476360" y="189000"/>
            <a:ext cx="302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ttp://www.</a:t>
            </a:r>
            <a:r>
              <a:rPr b="1" lang="en-US" sz="1400" spc="-1" strike="noStrike">
                <a:solidFill>
                  <a:srgbClr val="333399"/>
                </a:solidFill>
                <a:latin typeface="Verdana"/>
              </a:rPr>
              <a:t>dsnsecurity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547640" y="98100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Dynamic Symb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76360" y="1557360"/>
            <a:ext cx="741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547640" y="1773360"/>
            <a:ext cx="7272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namic Symb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9900"/>
              </a:buClr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 son 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9900"/>
              </a:buClr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o encontrarlos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T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0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bc.so.6\0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deregister_frame_info\0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MTAB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reglo de symbols Elf32_Sy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_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_valu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_inf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3141720"/>
            <a:ext cx="3384360" cy="936720"/>
          </a:xfrm>
          <a:prstGeom prst="rect">
            <a:avLst/>
          </a:prstGeom>
          <a:noFill/>
          <a:ln w="28440">
            <a:solidFill>
              <a:srgbClr val="4657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7T18:02:45Z</dcterms:created>
  <dc:creator>Cristian L. Mata</dc:creator>
  <dc:description/>
  <dc:language>en-US</dc:language>
  <cp:lastModifiedBy>Tiago Assumpcao</cp:lastModifiedBy>
  <dcterms:modified xsi:type="dcterms:W3CDTF">2003-04-02T15:10:32Z</dcterms:modified>
  <cp:revision>83</cp:revision>
  <dc:subject/>
  <dc:title>Diapositiva 1</dc:title>
</cp:coreProperties>
</file>