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8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91A-B54B-4087-8DD8-2CEE3A079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to recap a bit, If someone were to compromise your system, or a rogue admin, all they would need to do is pop the name of the dll into this key and reboot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ait for a reb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boot, the dll can start intercepting whatever data it is interest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you look for this, you’ll miss it as a backdoor possi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gnature of an attack is either the name of an unkown dll placed in k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nknown dll’s showing up in your process lis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s bad news. Requiring the manual investi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things to do to protect against this attack and others lik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be aware of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, know it’s default properties, that it is empty by default, no mainstream apps use it. That it can be erased but still used while system is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, audit the value for changes with Regedt32 and the security/auditing m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, use a file integrity checker like Pedestal Software’s Intact or Tripwire’s NT version for Trip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inally, erase the value and reboot the system will at lest get rid of that problem. There may be others to worry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ites contain the software mentioned in this t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0pht.com - l0phtckrack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ysinternals.com - pslist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ripwiresecurit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edestalsoftwar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ebspan.net/~tas/pwdum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2B2-E98D-4FEC-A216-A2136B20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E54-BC06-466A-9C34-0B231736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F23-8090-4678-99D2-679088C9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EC6-640E-4E85-83B7-69B461A7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A114-7F19-4400-8319-106D53DF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B16E-8F48-4027-9A0A-469AB9D0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9532-708F-46C1-91CA-FADE3071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3652-8D65-429C-B014-5B608C88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A480-D035-4CAD-B070-CF1B6283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8644-7790-476F-944A-F820BC44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7411-1104-460D-B301-A1E6B2A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9E5-0D2C-42C4-B654-0CDBE1D3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F077-DF67-4095-9E0B-50EC1EAE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84F2-CBCC-4CC9-AA04-5E5E7CA4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2A06-B9E8-4F54-BFF5-E773455F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30D3-B919-4076-A919-6F719C90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4991-8C0F-4E29-9844-033DEFED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DBA-9ABE-4D9E-8167-0EE3DF4E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D01-23D7-48F9-B3B4-9730C161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916-0E20-4273-B3F5-A8D40ABC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C2D-3BAE-4B5F-8B99-C93B0D89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038-1236-4E44-8080-A229055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923-20B1-42A8-BA6A-DDA8EB06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ECA-A50C-494C-8B4B-11E2A0E8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889C-CFE3-4E6E-A265-336CAE8564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B3BC-17FF-4213-B747-59560B950C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rusion Auditing Under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ndows NT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tching Greg Hoglund - Part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JD Gla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dglaser@ntobjectiv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NetMon Tip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ok up MS NetMon to watch all outgoing traffic of a suspected breached ho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aware that the generated traffic can have forged source address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heck Fil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k out the file integrity chec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use a home-made solutio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your own baseline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l can be used here to great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hing. all files match to origi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w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.EXE Side Not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 file as ~ in temp directory can confuse a tripwire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 because you probably aren't going to take time to look at th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you have scripted TW to avoid looking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askMan Showing ~EX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173" name="tempEXE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2485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Executing ~.tmp Fil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175" name="runbad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1438200"/>
          </a:xfrm>
          <a:prstGeom prst="rect">
            <a:avLst/>
          </a:prstGeom>
          <a:ln w="0">
            <a:noFill/>
          </a:ln>
        </p:spPr>
      </p:pic>
      <p:pic>
        <p:nvPicPr>
          <p:cNvPr id="176" name="runbadnotice" descr=""/>
          <p:cNvPicPr/>
          <p:nvPr/>
        </p:nvPicPr>
        <p:blipFill>
          <a:blip r:embed="rId2"/>
          <a:stretch/>
        </p:blipFill>
        <p:spPr>
          <a:xfrm>
            <a:off x="1523880" y="3581280"/>
            <a:ext cx="6048360" cy="1133640"/>
          </a:xfrm>
          <a:prstGeom prst="rect">
            <a:avLst/>
          </a:prstGeom>
          <a:ln w="0">
            <a:noFill/>
          </a:ln>
        </p:spPr>
      </p:pic>
      <p:pic>
        <p:nvPicPr>
          <p:cNvPr id="177" name="rungood" descr=""/>
          <p:cNvPicPr/>
          <p:nvPr/>
        </p:nvPicPr>
        <p:blipFill>
          <a:blip r:embed="rId3"/>
          <a:stretch/>
        </p:blipFill>
        <p:spPr>
          <a:xfrm>
            <a:off x="1371600" y="4876920"/>
            <a:ext cx="6362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~ Points</a:t>
            </a: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 checkers create ‘Time Sweep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s wide trial showing what to a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one method to side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Examine RID’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latest RID, none have been added (NT uses them sequentially and never reuses th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see accounts have been created/dele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etting to RID Registry Key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183" name="gettingRIDs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roceed Right Pas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dmins get stuck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menu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yourself the rights to sub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ed right past the gr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ID Registry Key Screen Sho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187" name="RIDcounts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 I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 tools I have wr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techniq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Key RID Point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key, see the admin (500 dec = 1F4 h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3E8 this is 1000 the first user account, always starts this way on NT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3E9 is missing - need to account for this, could have been used in at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Why do I need an Audit Tool?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ts down research time considerab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ew hours manually  vs.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es sear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it, looking at entries in the event log is on an individual basis 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hand matc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s Hass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hand match logs hexadecimal ID’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NTLast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ware command line audit tool that analyzes the NT event 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es logon times with logoff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user time frames for further forens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quickly displays who logged on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long they were logged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n Failures - no way to plainly see this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UE:  Where did they come from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 - ALWAYS REFERENCE AGAINST THE EVENT 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Setting Up the Audit - Errors 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common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ing slide explains the mistake of setting auditing for only one file, when you think auditing has been set for several files - NT GUI is a bit misleading here. Unless you go back and check, you can’t be sure your files are being au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on first slide that ACE’s are added for the first group, But second slide shows the following groups have no ACE’s assign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 = No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Setup Error #1 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auditmistake1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095880" cy="4495680"/>
          </a:xfrm>
          <a:prstGeom prst="rect">
            <a:avLst/>
          </a:prstGeom>
          <a:ln w="0">
            <a:noFill/>
          </a:ln>
        </p:spPr>
      </p:pic>
      <p:pic>
        <p:nvPicPr>
          <p:cNvPr id="203" name="NTO_logo_sm6" descr=""/>
          <p:cNvPicPr/>
          <p:nvPr/>
        </p:nvPicPr>
        <p:blipFill>
          <a:blip r:embed="rId2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Setup Error #2 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auditmistake2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095880" cy="4495680"/>
          </a:xfrm>
          <a:prstGeom prst="rect">
            <a:avLst/>
          </a:prstGeom>
          <a:ln w="0">
            <a:noFill/>
          </a:ln>
        </p:spPr>
      </p:pic>
      <p:pic>
        <p:nvPicPr>
          <p:cNvPr id="208" name="NTO_logo_sm6" descr=""/>
          <p:cNvPicPr/>
          <p:nvPr/>
        </p:nvPicPr>
        <p:blipFill>
          <a:blip r:embed="rId2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unning NTLast 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t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ting must have already been turned on and events have been recor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do any good to run NTLast against an empty log. NT has security auditing turned off by default, so this must be specifically done beforeh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Combining Switche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tlast /f /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tlast -f -r -n 2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tlast /i /not Administrato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tlast -m \\machinename -f -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s the last 10 failed interactive logon attem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s the last 25 failed remote logon attem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s the last 10 interactive logons by other accounts besides "Administrator"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s the last 10 failed remote attempts against machine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Watching for Logon Failure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ures are indicated by a single value of 528 in the NT Event Log. This is not easy to spot, nor count. At first glance, determining which account failed the logon is not obvious eith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the following slide of how to use the -F switch with NTLast to view all the failed logon attempts against you box quick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 - I keep ntlast in my path and I place a shortcut to it from explorer so I   can get to it quickly - See appendix for details on setting this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 - I also keep a shortcut placed on my desk to the event viewer, and have the sec log as the default log to look at.  See appendix for details of how to do this.*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outine Password Guessing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Las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r -n 100 &gt;&gt; results.t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ans      \\LIONESS    BDC2    Sun Jun 20 09:04:13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ans      \\LIONESS    BDC2    Sun Jun 20 09:04:13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ans      \\LIONESS    BDC2    Sun Jun 20 09:04:14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ogers    \\LIONESS    BDC2    Sun Jun 20 09:04:14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ogers    \\LIONESS    BDC2    Sun Jun 20 09:04:15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ogers    \\LIONESS    BDC2    Sun Jun 20 09:04:15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\\LIONESS    BDC2    Sun Jun 20 09:04:16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\\LIONESS    BDC2    Sun Jun 20 09:04:16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ice as well the close times synchs - indicates automated gues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ably attempting 3 common guesses as to not trigger a lock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Note - Using -f switch for failure lookup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Note - Redirecting ntlast output to file to save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y Morning E-Mail Messag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5640" y="274320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’re h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mote Usage Result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Last -r &gt;&gt; results.t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  \\RIND              BDC2   Mon Jun 21 10:10:00a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  \\RIND              BDC2   Sun Jun 20 04:41:15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  \\SUSANS        BDC2   Sat Jun 19 12:47:14am 1999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--Oddb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ogers      \\MROGERS    BDC2   Tue Jun 15 12:38:32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ans        \\SUSANS        BDC2   Wed Jun 09 04:47:52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ogers      \\MROGERS    BDC2   Wed Jun 09 06:40:52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  \\RIND              BDC2   Wed Jun 09 09:31:21a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e oddball here, erindfeld logging on from someone else’s box late at nig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Note - Redirecting ntlast output to file to save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Evidence of a Sniffed Password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Last -r -n 200 &gt;&gt; results.t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 \\LION             ACCT   Wed Apr 21 02:07:30am 199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--AL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 \\LION             ACCT   Sat Apr 17 12:57:22am 199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--AL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llager   \\DOCSERV    ACCT   Thu Apr 08 05:45:14pm 1999 &lt;--Normal re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llager   \\DOCSERV    ACCT   Wed Apr 07 05:18:03pm 1999 &lt;--Normal re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masl   \\DOCSERV    ACCT   Tue Apr 06 05:58:34pm 1999 &lt;--Normal re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 \\BRIANM       ACCT   Mon Apr 02 02:09:29pm 199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--Normal rem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masl   \\THOMASL    ACCT   Mon Apr 02 11:01:19am 1999 &lt;--Normal re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ime lag between brianm logging on from his machine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logging on from unknown remote bo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time needed to crack sniffed password. Notice no failures - Fairly significant - strong evidence of a sniffed pass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mote User Activity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Last -r -u brianm -n 3 &gt;&gt; results.t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\\LION    BDC2   Mon Jun 07 09:10:00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\\LION    BDC2   Sun Jun 06 03:41:15a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\\LION    BDC2   Sat Jun 05 04:47:14a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s us the last 3 time this guy logged on remo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drill down on one of these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Verbose Mode - Time Frame Usag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Las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r -u brianm &gt;&gt; results.t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 minute remote logon from brian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ord Number: 7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uterName: AC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ntID: 528   -   Successful 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on:  Wed Apr 21 02:07:30am 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off:  Wed Apr 21 02:42:30am 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ails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entName:     brian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entID:       (0x0,0x20F9E8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entMachine:  \\L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entDomain:   AC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onType:      Re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gives us a 35 minute window during first crack to look for file activ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- Saving verbose mode output to a f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garding Searching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hings to 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want to look at very first access times to see first possibl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look at recent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prepared, you may find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to run as few apps as possible while performing an exam. Command line tools leave a smaller footprint - less chance of altering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Matching File Acces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ing for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 out normal system files - I use HandleEx.exe from SysInternals for learning about system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 command prompt,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 /t:c to find file creation ti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 /t:w to find last file write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 /t:a to find last file access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run “dir /t:a &gt; search.txt” and load that file into an editor with a search fe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Searching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luc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find a file created during that first suspected 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find th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e accessed during the last 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*Note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't use Explorer to check file access ti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destroys the real file access time by setting it to the current time you look at it. That isn't what you want and will kill your cl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File Search Result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luck, A file shows creation for tha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 /t:c c:\winnt\system32 &gt;&gt; results.t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6/13/96  06:38p               152,848 winmsd.e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6/13/96  06:38p                 13,046 winnt.hl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4/21/99  02:38a                 32,768 winoldapp.ex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--VERY SU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6/13/96  06:38p                   2,880 winsock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4/30/97  11:00p                 92,944 WINSPOOL.DR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4/30/97  11:00p                 15,120 WINSRPC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4/30/97  11:00p               166,672 WINSRV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6/03/96  06:38p                 19,728 winstrm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There is no legit file called winoldapp.exe - but it does not look out of 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There IS a legit file called winoldap.mod - very simi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Compare  -  winoldapp.exe == 32k    winoldap.mod = 2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File Examination Using GNU String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/strings winoldapp.exe &gt;&gt; results.t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Use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ShareEn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UseAd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UserEn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SidSub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upAccountNam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Strings reveals very suspicious api ca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Looks like a backdo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note - a hacker can hide his machine from browsers - See App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ckers machine is now basically invisible so it's likely you won't notic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n connect calls are made to this hidden machine from this 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al Life Results Problematic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find that the main file you are interested in was modified AFTER the suspected user time fr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the access time fits, but the modified time is wrong This is probably not enough evidence and means you will have to keep digg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things are just totally overwr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ace is 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pass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e a  toolkit from burned CD of known goo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 looking for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5029200"/>
            <a:ext cx="7848720" cy="685800"/>
            <a:chOff x="685800" y="5029200"/>
            <a:chExt cx="7848720" cy="685800"/>
          </a:xfrm>
        </p:grpSpPr>
        <p:sp>
          <p:nvSpPr>
            <p:cNvPr id="144" name=""/>
            <p:cNvSpPr/>
            <p:nvPr/>
          </p:nvSpPr>
          <p:spPr>
            <a:xfrm>
              <a:off x="838440" y="5143320"/>
              <a:ext cx="76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How do we find out who was on the system and when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5029200"/>
              <a:ext cx="7848720" cy="68580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mote WinWord Launch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list of file accesses during a user time fr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6/22/99  12:17a             3,772,176 MSO97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6/22/99  12:17a             5,324,560 WINWORD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6/22/99  12:17a             1,158,416 WWINTL32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ng from list is msidl.dll - MS GUI H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means a DCOM lau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Word is operating in the background /w no visible interface - Can only view this from Task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Trouble Finding DCOM Permission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, WinWord is not listed in DCOMCNF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listed in OleView, Very few admins know about Ol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under Classes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Manager perms/users are not altered, looking there not help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OleView.exe #1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OleView.exe #2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OleView Permission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, runs under perms of current GUI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nbtstat -a” to probe when Admin is logg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WinWord with full Admin pri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Guest backdoor w/ Admin pri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Word has large install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install Word/Office on a secure fil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App_Dll Key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KLM/Software/microsoft/windows nt/currentversion/windows/appinit_d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s the dll listed here into every GUI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ty by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ver seen this used by a legit 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The kicker is that this value is saved in kernel mode, and requested by user32 whenever a gui is launched. This means that the value can be erased while running to help hide it, but it's effect stays in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- this is *NOT* in MS sec guidelines, nor in any NT sec book guidelines I have se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How to use it for a Compromise?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dll that can capture keystro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dlls name in AppInit_DLL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ll will now capture keystrokes and write to a file and/or send 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1752480"/>
            <a:ext cx="8077320" cy="1526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ignature of an Attack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unknown name of a dll listed in this key is sign of bad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unknown dlls being listed in your running process spaces could have been injected from thi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676520"/>
            <a:ext cx="8077320" cy="152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How to protect against it?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ware of the keys exis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at’s its default value is 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at the value can be erased, but it’s effect remains in place until a re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the key value and perform che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File Integrity Check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boot with empty key value to remove it’s eff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676520"/>
            <a:ext cx="8077320" cy="152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NT Repair Directory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ch this g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ed very rarely by backup or manually by repair 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 access might very well mean it was read by L0pht C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some kind of trigger to watch for access time change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Key here is that crackers don’t want alter it, they just want to read it - you most likely are not looking for a Trojan or altered binary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itial Assertion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reading  my 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ts of log activity. Can't verify for certain a time/date/logon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dd server names - COULD BE FORGED TH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m not running IIS on this box - Cross that 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have sniffed a pass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on Problem - Strong PDC, Weak local admin pass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mines the whole g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ignatures of L0phtcrack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ccessful logon without failures appe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e recent file access time on c:\winnt\repair\sam.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, long running process on a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How to protect against i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uditing on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notes of when you access this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ile Integrity Checkers in a ‘lite’ mo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, Don’t go nu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ctively Hunt L0phtCrack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scripts to read this acces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scripts to read remote drives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scripts to search remote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Listing Remote Process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lservers, npList and Gr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servers | nplist | grep l0phtcrack &gt; alert.t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use and time running - very valu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NPList Dump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information for \\KRAS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d    Mem     User Time   Kernel Time   Elapsed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le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     16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0:00:00.000  69:52:39.745    0:00:00.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     200       0:00:00.000   0:06:08.519    0:00:00.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LOGON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   28         0:00:00.330   0:00:01.992   71:19:38.7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RVICES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    1472     0:00:01.111   0:00:03.915   71:19:37.5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SASS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3    880      0:00:02.824   0:00:06.058   71:19:36.3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OOLSS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8    200      0 :00:00.781   0:00:01.091   71:19:27.6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0phtcrack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34   2544   0:04:28.486   0:00:01.912   0:06:04.4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edt32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0    620     0:00:01.762   0:00:04.125    2:54:35.19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PAINT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6    604     0:00:02.713   0:00:10.404    2:53:06.8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LOOK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54   5460   0:00:05.948   0:00:08.402    1:31:17.83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PISP32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1   3184    0:00:00.460   0:00:00.941    1:31:17.6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MD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9   1236    0:00:00.010   0:00:00.040    0:02:58.3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ime to Run is a Clu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0phtCrack usually takes a least a few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total CPU time, not idl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value is much higher than norm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applications have high idle time, low actual CPU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NT Process Tim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\Work\eattime\Debug&gt;nplist l0phtcr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         Pid Pri Thd  Hnd    Mem     User Time   Kernel Time Elapsed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0phtcrack  3134   8   2   32   2544   0:04:28.486   0:00:01.912   0:06:04.4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0phtcrack  3134   8   2   32   2588   0:07:55.503   0:00:02.223   0:09:35.4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\Work\eattime\Debug&gt;nplist msd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         Pid Pri Thd  Hnd    Mem     User Time   Kernel Time  Elapsed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DEV       11772   8   5   68   1308   0:00:01.862   0:00:03.324 4:28:11.84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DEV       3589   8   8  255   5476    0:02:51.656   0:01:00.016 2:59:41.4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545004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Important to notice kernel/User time relatio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dvanced Remote Listing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nplist /csv and/or gr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plist \\hostx &gt; process.t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 into Excel spread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and report all process running longer than X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Why Full Scale Integrity Checking Can Fail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too intru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king it’s hash, it kills what you need to see - access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 - You can’t blindly apply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Gina Replacement Key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EY_LOCAL_MACHINE\Software\Microsoft\Windows NT\CurrentVersion\Win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ware that a new value here allows a dll to intercept your log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technique is called DLL Pass-Thr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s are simply intercepted then forwarded to the real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ace Is 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pass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e a  toolkit from burned CD of known goo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 looking for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ina API Call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WINAPI WlxLoggedOutSAS (PVOID pWlxContext,   DWORD dwSasTyp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LUID pAuthenticationId,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   PSID pLogonSid,    PDWORD pdwOptions,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NDLE phToken,  PWLX_MPR_NOTIFY_INFO pMprNotify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VOID *pProfil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t = GWlxLoggedOutSAS (pWlxContext,  dwSasType, pAuthenticationId, pLogonS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dwOptions,  phToken,  pMprNotifyInfo,  pProfil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MprNotifyInfo-&gt;pszUserNa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MprNotifyInfo-&gt;pszPasswor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 insert code here to do whatev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File = CreateFile 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teFile 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oseHandle (hFil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iRe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Hooks - In General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ks allow the loading of dll's into 'every' GUI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eans a keyboard/clipboard intercept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- pgp puts pgp60hk.dll into every process space. You can see this with handleex.ex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Hooks - Outlook Process Spac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GP hook injected into MS Outl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hook1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619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Hooks - WinWord Process Spac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GP Hook Injected into MS WinWord process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hook2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619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Hooks - Cmd Process Spac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ice - No injection, cmd has no msg pump for hook to att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wer system dll’s loaded - can be useful when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hook3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619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Finally - WinObj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ool allows viewing of driver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all the known, registered driv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WinObj Base Sho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353" name="winobjBASE" descr=""/>
          <p:cNvPicPr/>
          <p:nvPr/>
        </p:nvPicPr>
        <p:blipFill>
          <a:blip r:embed="rId1"/>
          <a:stretch/>
        </p:blipFill>
        <p:spPr>
          <a:xfrm>
            <a:off x="838080" y="1685880"/>
            <a:ext cx="762012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Unknown Driver Sho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355" name="trojandriver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ogue Driver Conclus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driver is able to sniff memory and mail out a smtp frame to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driver eludes file chec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driver eludes casual system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 is ca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emoving Executing Fil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ebooting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fy it is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e driver’s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file locked ms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y Initial Proces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task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loaded dll's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through the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th #4,650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s are locked and can't be deleted because NT is using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rivers live in non-paged memory - Exe’s don’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can have there backing file deleted becasue most drivers are not swapped and so do not make use of virtual memory in the same manner that normal exe’s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s are locked in place because NT uses it's virtual paging mechanism to back the file. Usually, only part of the exe is loaded, with a bunch of reserved, but not committed memory available to the process. NT locks the resources it needs so it can swap in and out what it want'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Oh, Great Network Guru:)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3 number crunching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AT and AT - if you don't know how to use these, YOU 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KS tools, (grep, strings) powerful comman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cls and xcacls - put these tools in scripts and run them, run them, run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Mon, RegMon, WinObj from sysinte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ON’T OWN A SCA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ools Part II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l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 is an information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win if we can better analyz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 Resource kit - Lear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eState, and Perl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valuable than expense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ing and audi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and USE you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Base Lining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I know what my baseline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File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amiliar with fil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Reg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ch and record ac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WinOb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orize basic N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this info into Ex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dvances in NT Driver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 now  gives DDK away for free on the 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 writers were a small, closed group 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 available to larger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diting Fact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ans download audit tools over 2 to 1 vs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uy response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at scanner, rocks, smok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ick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have a date calculation error at line 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Summing It All Up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n evidence of an intr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n files accessed within a user time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some techniques/tips to assist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n how to examine different aspect of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n you that Greg is a really good g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his Talk for detailed file tr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nouncing New NTO Tool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servers - netbios names dum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plist  - network process dum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dited - now audits the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etX - Raw packet creator for 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olog /backup /cl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scan - dumps SP level of all NT 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versions of NTLast being po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acketX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w Native NT Packet Wr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s whatever you want to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ges Ethernet/TCP/IP H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ates FW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acketX Sho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385" name="packetwriter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581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y Second E-Mail Messag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L, Your new password is “keepgregou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acketX Capture Sho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387" name="packcapture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8487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In Closing - Possible Part III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is talk interested you and would like to know more….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SANS and maybe they will sponsor Part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 Object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 Hooking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oment of Silenc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. Richards Stevens - R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sources and Referenc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ind.exe for finding file access times without changing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ted.exe for generating a list of all files being audited on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 way to check your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 tools are freeware and can be downloaded 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ntobjectiv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Ex.exe from SysInternals, again, freeware 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sysinternal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s from Cygnus Bash - freeware unix tools for NT *VERY USEFUL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cygwin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endum - Facts, Tip detail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 times can be faked - API’s can alter all 3 time stam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 Event Viewer shortcut on desktop - Set Eve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iewer to default to security lo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use Explorer to look up access times, i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corrupts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Appendix A - Hiding from Browsing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 registry editor set the key HKEY_LOCAL_MACHINE\System\CurrentControlSet\Services\LanManServer\Para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value Hidden from 0 to 1. You should then reboo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can also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et config server /hidden: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can still connect to the computer, but it is not displayed on the brows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l0pht.com - l0phtckrack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ysinternals.com - pslist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tripwiresecurity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pedestalsoftwar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webspan.net/~tas/pwdump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1752480"/>
            <a:ext cx="8077320" cy="1526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rojan Possibility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know he did not sniff this time, nothing went out over the wire because I haven't yet accessed any domain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 Troj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4T04:44:13Z</dcterms:created>
  <dc:creator>JD Glaser</dc:creator>
  <dc:description/>
  <dc:language>en-US</dc:language>
  <cp:lastModifiedBy>JDG</cp:lastModifiedBy>
  <dcterms:modified xsi:type="dcterms:W3CDTF">1999-10-05T03:42:50Z</dcterms:modified>
  <cp:revision>399</cp:revision>
  <dc:subject/>
  <dc:title>Intrusion Auditing with NTLast </dc:title>
</cp:coreProperties>
</file>