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724-46D2-4319-B975-E7F5B5D3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DC0-E8C4-422E-A9FD-8BEA1F2C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419-D837-470D-8683-393B250B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585-6FDF-4AAD-8CE2-416CE715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00D-27FB-4736-B112-A89A274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79E-1B84-47A0-883B-5234C12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DC2-2D87-4C3E-A586-E3FD9286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E50-0B69-4BCB-9719-0CAD22CE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3A4-705D-4058-82FE-7CE68ED7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2EF-3821-46D1-B3F4-181A28F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A94-05CC-4ABD-BA5A-931DB4CD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459-9034-43F2-A435-9C71FB42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0034-2FBC-4EEF-8DDE-7EC546C77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tasploit.com/" TargetMode="External"/><Relationship Id="rId2" Type="http://schemas.openxmlformats.org/officeDocument/2006/relationships/hyperlink" Target="http://www.delikon.de/shellbuch/tools.zip" TargetMode="External"/><Relationship Id="rId3" Type="http://schemas.openxmlformats.org/officeDocument/2006/relationships/hyperlink" Target="http://www.delikon.de/" TargetMode="External"/><Relationship Id="rId4" Type="http://schemas.openxmlformats.org/officeDocument/2006/relationships/hyperlink" Target="mailto:ich@delikon.de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likon.de/zips/remote.zi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imple tutorial about Win32 Shell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ith the following multicolored pictures i try,to point out the tools and the easiest way(not the best, for the best look at 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etasploit.com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) to construct a win32 shellcode.This paper aims on people, which have read some papers about Bofs and shellcoding for Linux, but never have written some assembler codes for Win32.In this paper i only use hardcoded function-addresse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tools you need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VC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a Texted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the sourecode and binarys of the following tools and the sourcecodes i use in the tutorial are 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(http://www.delikon.de/shellbuch/tools.z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or comments visit me at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delikon.de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or mail at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ich@delikon.de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everything works well now, please copy the code in a arbitrary file and delete the "ptr" string, because nasm doesn't know this syntax, and write for the header "BITS 32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inished-asm-file" descr=""/>
          <p:cNvPicPr/>
          <p:nvPr/>
        </p:nvPicPr>
        <p:blipFill>
          <a:blip r:embed="rId1"/>
          <a:stretch/>
        </p:blipFill>
        <p:spPr>
          <a:xfrm>
            <a:off x="0" y="1046160"/>
            <a:ext cx="8001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91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ompile the file 2.asm with nasm, and generate with my tool makeshell.exe this shell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nasm -s -fbin 2.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makeshell.ex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you can find the shellcode in the file shellcode.c, he will work well(compile it and test it) but it contains NULL-BYTES which can cause probl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how-normal-shell" descr=""/>
          <p:cNvPicPr/>
          <p:nvPr/>
        </p:nvPicPr>
        <p:blipFill>
          <a:blip r:embed="rId1"/>
          <a:stretch/>
        </p:blipFill>
        <p:spPr>
          <a:xfrm>
            <a:off x="0" y="2406600"/>
            <a:ext cx="63752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89154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get away the NULL-BYTES, we have to Xor the shellcode.Please use for this my tool encode.ex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encode 2 0x95 &gt;&gt;db-array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de checks if the are any null-bytes or bytes which you cannot use in windows-file-names, because you never know for what you need the shellcode(look at the winhelp32.exe overflow).At this picture is everything allright.Now paste this array in a decryption-code,because without you cannot use this shell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how-db-array" descr=""/>
          <p:cNvPicPr/>
          <p:nvPr/>
        </p:nvPicPr>
        <p:blipFill>
          <a:blip r:embed="rId1"/>
          <a:stretch/>
        </p:blipFill>
        <p:spPr>
          <a:xfrm>
            <a:off x="0" y="2819520"/>
            <a:ext cx="8934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heck if it looks like this.Dont't forget to paste the right xor byte in . in this case 0x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how-decode-source" descr=""/>
          <p:cNvPicPr/>
          <p:nvPr/>
        </p:nvPicPr>
        <p:blipFill>
          <a:blip r:embed="rId1"/>
          <a:stretch/>
        </p:blipFill>
        <p:spPr>
          <a:xfrm>
            <a:off x="0" y="76824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89154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the only thing to do is to compile it and generate the c-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nasm -s -fbin decode.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makeshell 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and every Null-byte is gone(\x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i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remote hacks you need another command. This one -&gt;'cmd /c net share c=c:"'. With this command you can share the c: drive with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ourcecodes for this shellcode you can find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http://www.delikon.de/zips/remote.z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how-encoded-shell" descr=""/>
          <p:cNvPicPr/>
          <p:nvPr/>
        </p:nvPicPr>
        <p:blipFill>
          <a:blip r:embed="rId2"/>
          <a:stretch/>
        </p:blipFill>
        <p:spPr>
          <a:xfrm>
            <a:off x="1143000" y="3809880"/>
            <a:ext cx="5460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9154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the code we want to disassemble .It consists of 2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he execution of a CMD-shell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a exit(1) call, this call is very important,because if we use the shellcode in a bufferoverlow, and close the shell we would cause a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how-c-code" descr=""/>
          <p:cNvPicPr/>
          <p:nvPr/>
        </p:nvPicPr>
        <p:blipFill>
          <a:blip r:embed="rId1"/>
          <a:stretch/>
        </p:blipFill>
        <p:spPr>
          <a:xfrm>
            <a:off x="914400" y="1598760"/>
            <a:ext cx="72388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we will debug your code, the first thing to do, put the cursor right behind the exit(1) call and start th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un-c-code" descr=""/>
          <p:cNvPicPr/>
          <p:nvPr/>
        </p:nvPicPr>
        <p:blipFill>
          <a:blip r:embed="rId1"/>
          <a:stretch/>
        </p:blipFill>
        <p:spPr>
          <a:xfrm>
            <a:off x="457200" y="76824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we start the disassemb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isas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copy everything from main till call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copy everything from main till call 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ebug" descr=""/>
          <p:cNvPicPr/>
          <p:nvPr/>
        </p:nvPicPr>
        <p:blipFill>
          <a:blip r:embed="rId1"/>
          <a:stretch/>
        </p:blipFill>
        <p:spPr>
          <a:xfrm>
            <a:off x="0" y="601560"/>
            <a:ext cx="86104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paste everything in __asm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py-debug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will left only the important lines of code,because your goal is to code a very small shellcod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ormat-code2" descr=""/>
          <p:cNvPicPr/>
          <p:nvPr/>
        </p:nvPicPr>
        <p:blipFill>
          <a:blip r:embed="rId1"/>
          <a:stretch/>
        </p:blipFill>
        <p:spPr>
          <a:xfrm>
            <a:off x="0" y="657360"/>
            <a:ext cx="85345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0676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we need the two function addresses of WinExec and Exit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hat we use depends.exe(from the Microsoft SDK) and open with depends the compiled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ddress of WinExec is the kerneladdress + the Entry Point of WinExec = 0x77e70000+0x00018601=0x77e88601 now do the same with ExitProcess (Maybe you have different address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earch-winexec-addr" descr=""/>
          <p:cNvPicPr/>
          <p:nvPr/>
        </p:nvPicPr>
        <p:blipFill>
          <a:blip r:embed="rId1"/>
          <a:stretch/>
        </p:blipFill>
        <p:spPr>
          <a:xfrm>
            <a:off x="914400" y="2319480"/>
            <a:ext cx="62485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only thing which is left, is to move the addresses into eax and call it . Now compile the code and start it, if the code looks like this picture but don't work, you have used the wrong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c-finished-code" descr=""/>
          <p:cNvPicPr/>
          <p:nvPr/>
        </p:nvPicPr>
        <p:blipFill>
          <a:blip r:embed="rId1"/>
          <a:stretch/>
        </p:blipFill>
        <p:spPr>
          <a:xfrm>
            <a:off x="0" y="934920"/>
            <a:ext cx="8153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1:51:56Z</dcterms:created>
  <dc:creator>dfsdf</dc:creator>
  <dc:description/>
  <dc:language>en-US</dc:language>
  <cp:lastModifiedBy>dfsdf</cp:lastModifiedBy>
  <dcterms:modified xsi:type="dcterms:W3CDTF">2003-11-23T12:52:07Z</dcterms:modified>
  <cp:revision>3</cp:revision>
  <dc:subject/>
  <dc:title>PowerPoint-Präsentation</dc:title>
</cp:coreProperties>
</file>