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10075863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93240" y="777960"/>
            <a:ext cx="5110200" cy="3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2"/>
          </p:nvPr>
        </p:nvSpPr>
        <p:spPr>
          <a:xfrm>
            <a:off x="4017600" y="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401760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fld id="{1F65EE48-077A-4C4A-A67C-00B3D1385D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3440" cy="3836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3164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We believe in the advantages of a common language to increase the community produc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mmon programming language, good starting point but not en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shared flexible data model and good programming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nsistent communication  with the user: interface, documentation, error messages, reporting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46DAF-1322-493C-8846-1260C997B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880" y="4343760"/>
            <a:ext cx="912672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27EED-6E3E-4178-A5AE-BB904AC7C3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88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264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5FF05-E6F7-4515-909D-EDE61557F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1800" y="139824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87720" y="139824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880" y="434376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1800" y="434376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87720" y="434376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3D1AE-8CF7-4856-98AA-104BA982D3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943280" y="208080"/>
            <a:ext cx="78580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88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943B1-07A4-4792-92AD-6965883DF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9264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880" y="4343760"/>
            <a:ext cx="912672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880" y="4343760"/>
            <a:ext cx="912672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588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9264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01800" y="139824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7720" y="139824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880" y="434376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01800" y="434376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87720" y="434376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B45A7-A546-4801-ACF8-235EBC97AC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0EC17-3948-4130-8132-9E936ED8B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F6141-14AF-4FAD-99BE-000A7AC3F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943280" y="208080"/>
            <a:ext cx="78580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D0E6D-3F54-4B6A-B0B8-05D3E4EA7F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1588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41E2D-1426-4BD9-A903-0C518A565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264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DD52D-F802-4139-B4EC-28FCFA66F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880" y="4343760"/>
            <a:ext cx="912672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CC73A-7F37-4C11-988D-44AC49BFD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Verdana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Verdana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Verdana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30920" y="7226280"/>
            <a:ext cx="1158840" cy="287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1" lang="zh-CN" sz="11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18E19DDE-5AAC-401C-B747-C1A244E02C4B}" type="slidenum">
              <a:rPr b="1" lang="zh-CN" sz="11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3840" y="1717200"/>
            <a:ext cx="8569080" cy="1428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3640" y="1769760"/>
            <a:ext cx="90684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1" marL="503280" indent="0"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1008000" algn="ctr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511280" algn="ctr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16000" algn="ctr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1600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1600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.baidu.com/aullik5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.baidu.com/aullik5/blog/item/d38bba00c1e3d104738da5e1.html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nehta.googlecode.com/" TargetMode="External"/><Relationship Id="rId3" Type="http://schemas.openxmlformats.org/officeDocument/2006/relationships/hyperlink" Target="http://planet.ph4nt0m.org/" TargetMode="External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3840" y="1717200"/>
            <a:ext cx="8569080" cy="1428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Anehta</a:t>
            </a:r>
            <a:br>
              <a:rPr sz="7200"/>
            </a:b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高级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XSS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攻击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98200" y="3781440"/>
            <a:ext cx="637236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xis@ph4nt0m.org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ehta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的架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采众家之长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不是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ramework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， 而是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Platform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.js :: JS Attack API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430200" y="3925800"/>
            <a:ext cx="2448000" cy="201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61840" y="4573440"/>
            <a:ext cx="108144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20296800">
            <a:off x="1943280" y="4068360"/>
            <a:ext cx="1726920" cy="504720"/>
          </a:xfrm>
          <a:prstGeom prst="rightArrow">
            <a:avLst>
              <a:gd name="adj1" fmla="val 50000"/>
              <a:gd name="adj2" fmla="val 855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269000">
            <a:off x="1869840" y="5294160"/>
            <a:ext cx="1726920" cy="505080"/>
          </a:xfrm>
          <a:prstGeom prst="rightArrow">
            <a:avLst>
              <a:gd name="adj1" fmla="val 50000"/>
              <a:gd name="adj2" fmla="val 854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98920" y="3565440"/>
            <a:ext cx="1295280" cy="649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25840" y="5653080"/>
            <a:ext cx="1295280" cy="649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31280" y="4068720"/>
            <a:ext cx="2016000" cy="288144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2881440"/>
              <a:gd name="textAreaBottom" fmla="*/ 2783160 h 2881440"/>
            </a:gdLst>
            <a:ahLst/>
            <a:rect l="textAreaLeft" t="textAreaTop" r="textAreaRight" b="textAreaBottom"/>
            <a:pathLst>
              <a:path w="21600" h="30871">
                <a:moveTo>
                  <a:pt x="3600" y="0"/>
                </a:moveTo>
                <a:arcTo wR="3600" hR="3600" stAng="16200000" swAng="-5400000"/>
                <a:lnTo>
                  <a:pt x="0" y="27271"/>
                </a:lnTo>
                <a:arcTo wR="3600" hR="3600" stAng="10800000" swAng="-5400000"/>
                <a:lnTo>
                  <a:pt x="18000" y="308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639280" y="2486160"/>
            <a:ext cx="647640" cy="647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83640" y="3349800"/>
            <a:ext cx="504720" cy="1081080"/>
          </a:xfrm>
          <a:prstGeom prst="upArrow">
            <a:avLst>
              <a:gd name="adj1" fmla="val 50000"/>
              <a:gd name="adj2" fmla="val 535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913400">
            <a:off x="4174920" y="6518160"/>
            <a:ext cx="1008000" cy="43200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22920" y="586908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9848000">
            <a:off x="4102200" y="4717800"/>
            <a:ext cx="1296720" cy="576000"/>
          </a:xfrm>
          <a:custGeom>
            <a:avLst/>
            <a:gdLst>
              <a:gd name="textAreaLeft" fmla="*/ 226800 w 1296720"/>
              <a:gd name="textAreaRight" fmla="*/ 940320 w 129672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70560" y="4789440"/>
            <a:ext cx="93672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43640" y="5869080"/>
            <a:ext cx="79056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54560" y="6589800"/>
            <a:ext cx="792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51640" y="4861080"/>
            <a:ext cx="934920" cy="360360"/>
          </a:xfrm>
          <a:prstGeom prst="rightArrow">
            <a:avLst>
              <a:gd name="adj1" fmla="val 50000"/>
              <a:gd name="adj2" fmla="val 648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51640" y="6086520"/>
            <a:ext cx="863640" cy="287280"/>
          </a:xfrm>
          <a:prstGeom prst="rightArrow">
            <a:avLst>
              <a:gd name="adj1" fmla="val 50000"/>
              <a:gd name="adj2" fmla="val 75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90560" y="47181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eed.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4560" y="4068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浏览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98920" y="3637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ehta.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4920" y="57974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43640" y="49338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x.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70560" y="59421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cook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26200" y="65898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62920" y="50054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HP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后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ehta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架构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1509840" y="4718160"/>
            <a:ext cx="7511760" cy="684000"/>
          </a:xfrm>
          <a:prstGeom prst="cube">
            <a:avLst>
              <a:gd name="adj" fmla="val 25000"/>
            </a:avLst>
          </a:prstGeom>
          <a:solidFill>
            <a:srgbClr val="9999cc">
              <a:alpha val="90000"/>
            </a:srgbClr>
          </a:solidFill>
          <a:ln w="0">
            <a:noFill/>
          </a:ln>
          <a:effectLst>
            <a:outerShdw dist="152735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09840" y="3565440"/>
            <a:ext cx="4968720" cy="684360"/>
          </a:xfrm>
          <a:prstGeom prst="cube">
            <a:avLst>
              <a:gd name="adj" fmla="val 25000"/>
            </a:avLst>
          </a:prstGeom>
          <a:solidFill>
            <a:srgbClr val="3deb3d">
              <a:alpha val="90000"/>
            </a:srgbClr>
          </a:solidFill>
          <a:ln w="0">
            <a:noFill/>
          </a:ln>
          <a:effectLst>
            <a:outerShdw dist="152735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ehta Logge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24840" y="2432160"/>
            <a:ext cx="1846080" cy="1780920"/>
          </a:xfrm>
          <a:prstGeom prst="cube">
            <a:avLst>
              <a:gd name="adj" fmla="val 25000"/>
            </a:avLst>
          </a:prstGeom>
          <a:solidFill>
            <a:srgbClr val="c8fac8">
              <a:alpha val="90000"/>
            </a:srgbClr>
          </a:solidFill>
          <a:ln w="0">
            <a:noFill/>
          </a:ln>
          <a:effectLst>
            <a:outerShdw dist="152735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ehta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09840" y="1260360"/>
            <a:ext cx="7511760" cy="684360"/>
          </a:xfrm>
          <a:prstGeom prst="cube">
            <a:avLst>
              <a:gd name="adj" fmla="val 25000"/>
            </a:avLst>
          </a:prstGeom>
          <a:solidFill>
            <a:srgbClr val="c8fac8">
              <a:alpha val="90000"/>
            </a:srgbClr>
          </a:solidFill>
          <a:ln w="0">
            <a:noFill/>
          </a:ln>
          <a:effectLst>
            <a:outerShdw dist="152735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eed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09840" y="2432160"/>
            <a:ext cx="5005080" cy="682560"/>
            <a:chOff x="1509840" y="2432160"/>
            <a:chExt cx="5005080" cy="682560"/>
          </a:xfrm>
        </p:grpSpPr>
        <p:sp>
          <p:nvSpPr>
            <p:cNvPr id="135" name=""/>
            <p:cNvSpPr/>
            <p:nvPr/>
          </p:nvSpPr>
          <p:spPr>
            <a:xfrm>
              <a:off x="1509840" y="2432160"/>
              <a:ext cx="2502720" cy="682560"/>
            </a:xfrm>
            <a:prstGeom prst="cube">
              <a:avLst>
                <a:gd name="adj" fmla="val 25000"/>
              </a:avLst>
            </a:prstGeom>
            <a:solidFill>
              <a:srgbClr val="3deb3d">
                <a:alpha val="90000"/>
              </a:srgbClr>
            </a:solidFill>
            <a:ln w="0">
              <a:noFill/>
            </a:ln>
            <a:effectLst>
              <a:outerShdw dist="152735" dir="2700000" blurRad="0" rotWithShape="0">
                <a:srgbClr val="808080">
                  <a:alpha val="9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Cookie.j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21000" y="2432160"/>
              <a:ext cx="2293920" cy="682560"/>
            </a:xfrm>
            <a:prstGeom prst="cube">
              <a:avLst>
                <a:gd name="adj" fmla="val 25000"/>
              </a:avLst>
            </a:prstGeom>
            <a:solidFill>
              <a:srgbClr val="3deb3d">
                <a:alpha val="90000"/>
              </a:srgbClr>
            </a:solidFill>
            <a:ln w="0">
              <a:noFill/>
            </a:ln>
            <a:effectLst>
              <a:outerShdw dist="152735" dir="2700000" blurRad="0" rotWithShape="0">
                <a:srgbClr val="808080">
                  <a:alpha val="9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canner.j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一切都源于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eed.j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非常易于扩展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293840" y="1981080"/>
            <a:ext cx="756108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694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核心库：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ehta.j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17480" y="1189080"/>
            <a:ext cx="8785440" cy="59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3100" spc="-1" strike="noStrike">
                <a:solidFill>
                  <a:srgbClr val="000000"/>
                </a:solidFill>
                <a:latin typeface="Verdana"/>
              </a:rPr>
              <a:t>Javascript Framework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Cor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Dom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Net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Logge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Ajax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Inject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Hook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Detect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Scanne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Trick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……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ehta Cach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1120" y="1477440"/>
            <a:ext cx="906948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950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个客户端的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ch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Cache.setItem(“Key”, “Value”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Cache.getItem(“Key”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.logger.logCache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ehta Cache!!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58920" y="1405080"/>
            <a:ext cx="94327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客户端识别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120" y="1477440"/>
            <a:ext cx="906948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P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oki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lash SharedObjec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客户端水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ross Site Cookie Stea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120" y="1189080"/>
            <a:ext cx="9069480" cy="56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浏览器安全模型的核心：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ame Origin Policy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Cookie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模块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Boomerang!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(Demo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8560" y="166320"/>
            <a:ext cx="77724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rowser Sniffe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4200" y="1476360"/>
            <a:ext cx="9069480" cy="59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975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900" spc="-1" strike="noStrike">
                <a:solidFill>
                  <a:srgbClr val="000000"/>
                </a:solidFill>
                <a:latin typeface="Verdana"/>
              </a:rPr>
              <a:t>如何识别浏览器版本？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975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975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UserAgent ?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975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975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Browser Sniffer!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rowser Sniffer in Detai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1120" y="1382760"/>
            <a:ext cx="906948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某些浏览器特有的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M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对象或者方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例如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window.opera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:: Opera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独占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window.netscape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:: Mozilla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独占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window.Iterator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:: Firefox 2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以上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document.styleSheetSets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:: Firefox3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以上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&amp; Opera 9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以上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o am I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17480" y="140472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刺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·axis ·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大风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·aullik5 ·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道哥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默罕默德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333399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Verdana"/>
              </a:rPr>
              <a:t>Ph4nt0m Security Team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333399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hi.baidu.com/aullik5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信息刺探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1360" y="1117080"/>
            <a:ext cx="911556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detect.screenSize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scanner.ffPlugins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scanner.activex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scanner.history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Keylogge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 Javascript Keylogger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onkeypress , onkeydown, onkeyup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hook.installKeyloggerToAllInputs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ook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58560" y="1405080"/>
            <a:ext cx="93438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5320" indent="-3553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Hook JS Function!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-3553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Hook Form Submit!!!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-355320">
              <a:lnSpc>
                <a:spcPct val="98000"/>
              </a:lnSpc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hook.hookAllForms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-3553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ersist Cookie and Online Prox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1120" y="1260000"/>
            <a:ext cx="906948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Restful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架构下大型网站的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ession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问题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dom.persistCookie(“Cookie1”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Online Proxy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ent Prox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0200" y="1477440"/>
            <a:ext cx="934416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跨域限制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万恶的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ame Origin Policy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httponly cookie,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内部网络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客户端证书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验证码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Workflow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hi.baidu.com/aullik5/blog/item/d38bba00c1e3d104738da5e1.htm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ome Tricks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58560" y="1549440"/>
            <a:ext cx="934380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Hijack Link?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Phishing with XSS~!!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XSS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的传统分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DOM based XS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Reflected XSS (Non-persist XSS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tored XSS (Persist XSS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有必要再次细分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XS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74200" y="1404720"/>
            <a:ext cx="900108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针对不同的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payload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写法也会不同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是与业务紧密相关的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几类有特点的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XSS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漏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1405080"/>
            <a:ext cx="9126720" cy="548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ross Page XS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用户停留在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页面的时间维度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Pre-Auth XSS/ Post-Auth XSS (Session Fixation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与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essionIE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用户交互性强弱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rite a Worm with Anehta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1120" y="154944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让你只需要集中精力写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WORM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的功能即可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丰富的网络连接函数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net.getURL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net.cssGet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net.postFormIntoIframe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ajax.get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ajax.post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网络安全现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系统安全与应用安全两极化发展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系统安全的研究越来越底层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应用安全的研究越来越表层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小结：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1260360" indent="-25236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研究系统安全的越来越变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60360" indent="-25236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研究应用安全的越来越猥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60360" indent="0">
              <a:spcBef>
                <a:spcPts val="649"/>
              </a:spcBef>
              <a:buNone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ehta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未来的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45840" y="1693440"/>
            <a:ext cx="8496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状态保存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本地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Cookie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lash SharedObject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断点续传”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计划任务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使用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lash AS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脚本重新实现大部分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PI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功能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集成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Java Applet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实现部分功能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集成部分有用的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ctiveX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控件的方法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ehta 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未来的发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lave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统计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上线时间统计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地域统计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页面统计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其他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……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lave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精确控制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区别对待每一个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lave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更友好的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UI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eed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生成器；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Module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生成器；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ehta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未来的发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3000"/>
          </a:bodyPr>
          <a:p>
            <a:pPr marL="351360" indent="-351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集成浏览器、客户端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Exploit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-351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lave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上线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IM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通知、手机短信通知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-351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Html5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等新特性的支持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-351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分布式计算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-351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更多的模块（广告作弊、知名站的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WORM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模块）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-351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XSS DB?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不仅仅是一个攻击平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 --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双刃剑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.js --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程序员和站长的好帮手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XSS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的防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Input Filter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Output Encode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ecure by Default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广告时间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anehta.googlecode.com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://planet.ph4nt0m.org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Ph4nt0m Webzine!!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3280" y="163800"/>
            <a:ext cx="785952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770120"/>
            <a:ext cx="91155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 algn="ctr">
              <a:lnSpc>
                <a:spcPct val="98000"/>
              </a:lnSpc>
              <a:spcBef>
                <a:spcPts val="1525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6100" spc="-1" strike="noStrike">
                <a:solidFill>
                  <a:srgbClr val="000000"/>
                </a:solidFill>
                <a:latin typeface="Verdana"/>
              </a:rPr>
              <a:t>创意无极限</a:t>
            </a:r>
            <a:r>
              <a:rPr b="0" lang="en-US" sz="61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6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谢谢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770120"/>
            <a:ext cx="91155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spcBef>
                <a:spcPts val="24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9700" spc="-1" strike="noStrike">
                <a:solidFill>
                  <a:srgbClr val="000000"/>
                </a:solidFill>
                <a:latin typeface="Verdana"/>
              </a:rPr>
              <a:t>提问</a:t>
            </a:r>
            <a:r>
              <a:rPr b="0" lang="en-US" sz="97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9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应用安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在线数据越来越重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Gmail, Myspace, Facebook, Taobao, Alipay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Web 2.0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发展下越来越多的计算工作被放到客户端处理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目前的安全技术发展实际上落后于应用技术的发展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XS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7480" y="140472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OWASP Top 1 Threat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后能做什么？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劫持浏览器；一切浏览器能做的事情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 Payload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at is Anehta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120" y="154944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43800" indent="-3438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Verdana"/>
              </a:rPr>
              <a:t>高级</a:t>
            </a:r>
            <a:r>
              <a:rPr b="1" lang="en-US" sz="3500" spc="-1" strike="noStrike">
                <a:solidFill>
                  <a:srgbClr val="000000"/>
                </a:solidFill>
                <a:latin typeface="Verdana"/>
              </a:rPr>
              <a:t>XSS</a:t>
            </a:r>
            <a:r>
              <a:rPr b="1" lang="zh-CN" sz="3500" spc="-1" strike="noStrike">
                <a:solidFill>
                  <a:srgbClr val="000000"/>
                </a:solidFill>
                <a:latin typeface="Verdana"/>
              </a:rPr>
              <a:t>攻击利用平台</a:t>
            </a:r>
            <a:r>
              <a:rPr b="1" lang="en-US" sz="3500" spc="-1" strike="noStrike">
                <a:solidFill>
                  <a:srgbClr val="000000"/>
                </a:solidFill>
                <a:latin typeface="Verdana"/>
              </a:rPr>
              <a:t>(Platform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745200" indent="-28728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客户端信息刺探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5200" indent="-28728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隐私数据获取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5200" indent="-28728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网络请求（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GET/POST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5200" indent="-28728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……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800" indent="-3438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Reverse word of “Athena”(</a:t>
            </a:r>
            <a:r>
              <a:rPr b="0" lang="zh-CN" sz="3500" spc="-1" strike="noStrike">
                <a:solidFill>
                  <a:srgbClr val="333399"/>
                </a:solidFill>
                <a:latin typeface="Verdana"/>
              </a:rPr>
              <a:t>反转雅典娜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438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43800" indent="-3438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发音（跟我念）：</a:t>
            </a:r>
            <a:r>
              <a:rPr b="1" lang="zh-CN" sz="3500" spc="-1" strike="noStrike">
                <a:solidFill>
                  <a:srgbClr val="333399"/>
                </a:solidFill>
                <a:latin typeface="Verdana"/>
              </a:rPr>
              <a:t>阿</a:t>
            </a: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~</a:t>
            </a:r>
            <a:r>
              <a:rPr b="1" lang="zh-CN" sz="3500" spc="-1" strike="noStrike">
                <a:solidFill>
                  <a:srgbClr val="333399"/>
                </a:solidFill>
                <a:latin typeface="Verdana"/>
              </a:rPr>
              <a:t>内</a:t>
            </a: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~</a:t>
            </a:r>
            <a:r>
              <a:rPr b="1" lang="zh-CN" sz="3500" spc="-1" strike="noStrike">
                <a:solidFill>
                  <a:srgbClr val="333399"/>
                </a:solidFill>
                <a:latin typeface="Verdana"/>
              </a:rPr>
              <a:t>塔</a:t>
            </a: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~</a:t>
            </a:r>
            <a:r>
              <a:rPr b="1" lang="zh-CN" sz="3500" spc="-1" strike="noStrike">
                <a:solidFill>
                  <a:srgbClr val="333399"/>
                </a:solidFill>
                <a:latin typeface="Verdana"/>
              </a:rPr>
              <a:t>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43800" indent="-3438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XSS 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的利用形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针对个别目标的有针对性的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针对大规模目标的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XSS WORM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一些已有的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XSS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攻击平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ttack API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BeEF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 Shel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y Anehta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现有平台不够好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目标：集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攻击之大成者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!!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尽量降低跨站师们的重复工作量，让跨站师们能够把更多的精力放在处理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 Payload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的业务逻辑上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最后：一个能够实现我全部想法的平台，想怎么整就怎么整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x</dc:creator>
  <dc:description/>
  <cp:keywords>netifera platform network security open source</cp:keywords>
  <dc:language>en-US</dc:language>
  <cp:lastModifiedBy>hanqin.wuhq</cp:lastModifiedBy>
  <dcterms:modified xsi:type="dcterms:W3CDTF">2008-11-21T03:53:10Z</dcterms:modified>
  <cp:revision>138</cp:revision>
  <dc:subject/>
  <dc:title>The netifera platform</dc:title>
</cp:coreProperties>
</file>